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8E10-6257-4AEF-BEA0-0426A304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5F01-03ED-48E6-A81A-77E1C1A5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E79D4-D544-458D-8D3A-BB7DC95D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AB657-8836-429B-A06C-3663FCC5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B79E5-FB83-44BC-898D-8955F964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8E6D7-55B9-4138-BA08-E57FACA4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0F796-3B57-4E55-BB09-85B04C6E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287C6-1F00-4CE5-992F-33F6C979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9961C-2847-45DE-8A47-B6BE8863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B690A-565F-4A4A-A793-1B8A8EE1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DFB00-37E3-4017-B634-A5604FB4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C164B-3F63-4157-980F-70020FE5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C50A-C3D7-4563-A668-E10400B1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E91D0-9AA4-4AAC-B1F8-340F346F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6ADDF-BF86-483C-8766-415A929F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BB9F0-A170-4E63-AA12-EF874F27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44651-F6D7-46A5-8840-6E27A0DE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D9AB8-56DD-4B60-ABE5-7E81509F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3B30A-1A8A-44B9-AB04-15385A83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DB151-D570-43FD-BD05-515AC964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62C47-F36C-46E0-A7B0-DA0EDE28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490BC-64C7-41F5-87CE-ADBE38CD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D5DE4-C642-4593-A52D-B9F5FC1E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1396-F90B-4ED2-8B1A-F85E99BA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5D6C9-4AC8-4C8C-ABF9-5044E94C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DD59F-24EC-49BC-A463-04FD22F0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1E1A8-496A-4003-AF92-91298086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031FB-804D-450A-8B01-35ECDF7C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751FB-EDA8-4293-B43C-DD4F60F3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04B90-660E-4E0B-9790-F26780A9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0064F-71CF-44E6-93E0-067B693A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05D3A-959E-4145-A7DF-CAA122A7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E9AB3-070A-47E8-981F-7AA3F1A5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049D3-D385-4356-A8C9-12850702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B7DD-DAA5-4454-92A4-F1F4BF8D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4057D-EC23-40DB-9C2B-863A08EF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A2FF4-D820-416A-A724-25BD61F0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59081-3368-4D9B-9755-0A4E64E9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5F975-4AAF-4415-BAF8-B322E331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1B325-088C-4FEF-AC13-B6562EFC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39748-231D-4D41-8925-9D21A1FC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63317-DD7B-415B-88E7-7D2B5ED2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828BF-ABE9-4FC8-98CB-3C6072ED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6EAB6-37BD-4C7E-9583-B67A8F5E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DE70D-2F01-46C7-8E39-F87CC8B2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4F27-FF25-4468-9ACF-8CF52EF5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FB955-9FC7-4152-81EE-29EC1066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2482C-CEFF-47AF-A98B-98186773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26C94-8AE4-4DED-B7E9-99F4BCF3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E29C6-34E7-40C6-84F0-5D4D35E5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DA840-A48B-46C5-A43D-13CF0B81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10BFCC-87B3-4F71-BCF7-5F2949D0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5DEAC3-FA9F-4117-90B9-478C98B0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F828C1-2AC1-4A84-8F86-B6E82076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84DB4F-BEFD-41AE-983D-2C6D88D3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1A81BC-18F9-4CA2-9B07-167D8DB2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08B9-F73F-433D-A17E-1FCECAFC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876A65-D318-4A1B-A3EB-DE2E29FB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4BE097-EAAC-4ED5-ACB9-94A21FC9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6A0AB6-5CB0-4E56-90F6-530BBEB0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83E37D-D700-4606-8E91-BBFBBA48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3E9C6E-C1FA-4652-8F1B-9095ABFF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AC229A-61D3-412E-A262-BC7EE120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C7154F-8D91-429F-9879-C13969BC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645F2A-BD92-491A-AA9A-BF11081A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9B44EF-29DA-4DEB-886C-DEDE8EF7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44979E-B96F-4DF1-91CF-AB7401E6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9B26-A592-4DEC-A8E5-06EC4D2C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DDD3AD-9803-417E-B954-E9495CCF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9AE58B-DDCE-4FCD-A5E5-1948955E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19F870-8C6B-4BC4-A416-9FFE2673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018309-F21F-47A0-BDD2-ADA81089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FA99AB-7614-4C67-8C75-1ECFCDB0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F8B562-5D5C-4130-B500-115493D0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787022-0FFE-4A9B-899D-6A0C7BD9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33580B-D4B3-4951-BCC1-4770D362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356E47-B21E-478C-9D70-ED02D085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82800E-D003-4099-9CBD-D21B1D33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9216-2768-4440-B85B-E9BBA068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E432C3-BA36-4E89-8FDD-B7F8B71D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412280-C791-4BCF-B3BA-6DB762D6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7142F0-0A25-41C8-AFBE-4E4369B0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C6E452-734E-4D4D-843A-4E20E164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AF73ED-A42A-4BF9-BCE5-F062EDEA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FC9C9C-319D-488B-BE05-1260D351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F49ED0-E258-407C-BD05-0D2392C8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E3FB1F-5D36-43D7-83B4-CD8482A9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7C697B-885B-4585-A7F9-BA734344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536BB6-9C10-4614-8B32-537A3E82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E132-B47A-4702-B8A5-4CB010B8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D27858-B52D-4CF7-B082-16AF4075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43C196-5108-4773-B816-AEC4B6C3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8172C1-1C69-458C-8299-0649B232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EB7DFB-46DC-4CE9-8304-0FE4737B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E356D3-E18C-4031-B0F1-FBD396FC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8A3CE6-6C58-452A-8CF4-90E20B23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88DF7E-FC3B-42C2-AC64-15394431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695477-8486-499E-A22B-843D1F78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9B046F-DD17-40EF-9337-88E015E1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C4E3D5-D055-4C29-BC93-A0781007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27FC-8911-468D-A7CA-5FD95339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EDF77A-6D58-4F5A-BB6C-B0A348B8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94F9A0-AC79-453B-9FFF-B1DD4B8F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81EF69-0D72-4860-A560-3ECEEEB1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B3306B-DEDB-4AFF-A7DB-9C5A033E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4E21E3-2156-4BBC-87DB-D8DEDE08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02F318-E25D-4FA3-8CE4-0BA2CA7A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4A3B18-38AD-4362-944C-F879811A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A40756-280E-4592-A45A-7C676133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C621A4-0942-4647-897A-62C89A9B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551457-6D34-46AA-9D77-26B58814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9640-7510-4878-AFA4-ACBDB8AD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4744-0CD3-4CD5-A868-B1FC956B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0A6861-A38C-4767-88CE-2B0147C1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296A2B-D2EC-4A81-A1FD-461E603B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D9EFE4-9165-4CF1-9645-80E80843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902EB0-845E-49D1-BCD0-74B76390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8257C9-B492-4290-882B-C8AF9505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17CC5F-533C-4D60-B6DB-0D04DAD6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C07731-654C-478D-801C-938C853E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53023A-F309-4CFB-80DC-C97D7954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BAEED2-0637-4A6C-8131-2FFB1844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BC32CA-9D9D-4816-8FF6-0CF56F64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68E4-FA24-4FE1-B798-A4A9A661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9732E1-FED1-44A6-B8E3-F499BB9B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AE1000-60B7-4D62-BC7D-A4C665A3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CFB92B-3B07-4947-8FE7-2E991F37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90F4F4-1B88-4CFC-AF3D-2C7226A6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2B451D-2F83-43D7-B758-24B425BD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A58FA5-A8A3-4421-B95E-A0CD81BB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CE80BC-0B81-4293-AAED-C85C6188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9848B4-90D5-468E-9BCF-6DF70446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B3680D-2176-43F6-B91C-C06DCCED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134B76-9A4F-494C-A267-9AF37B9E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F4B5-3624-4472-BAC0-3537DF67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C04270-5142-4657-8377-2E19B6F6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D90373-2DAC-423A-8D5F-1D0F9701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04CC0F-2B20-440B-9BDC-95E45D6C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2C52ED-37B4-44CB-8F14-3D4E18E2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EE8880-B6EA-4A31-AAB5-E0DF0E13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D6E78B-B887-49B2-BE6D-00513539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E19808-0222-4F3E-8C6C-BA8CA8AD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2926C8-38AA-44F9-900A-1DA05B94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9DA57E-A56D-4FBA-91C7-035B309D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BFFA-F3DC-4A1D-86AB-A79B044E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A921-18DB-4E1F-A335-1EF7FDAD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61110-E3FD-4B73-80D8-1B20D02C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B8B15-5F74-4373-A449-8E0F7C26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6E22C-39E1-4E7B-B680-30652FB5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59638-25A0-4EB8-B0B0-C57F70D9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4A4AC-9838-48ED-B808-3DDDF679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7222-877A-48CA-AB04-8F0543D2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7A9F3-59D8-465C-A8D4-78756F7B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B1A97-A921-43D3-8E47-D745A998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EBA5E-6400-4B82-AF8B-F90DA894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0A96D-95AC-41C0-AA4B-C834106F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9C00D-273F-4D27-B7B5-16995AC0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63244-5954-45D6-A875-74FD55A2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132ED-CD92-4AFD-871F-408E6812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692B3-E032-4A13-B632-F28A9EFC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0D9D1-AF2B-43E9-B500-FAB6C881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8573D-E65F-4FB0-96C5-3C0A0896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2782-3BF2-47F0-B94A-A0123F0C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9146C-E9A4-41F2-A420-CE050FC8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23B2C-74ED-42D6-A717-4E39C097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751F0-FFB2-49B8-BF45-138008B2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DB080-41C1-47D7-8967-ED6CFC5B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8BCBA-5D1B-4679-8032-3AE70E6B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34AD4-A10E-4E0F-8074-C11C6E42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7FA7D-A40F-4A65-AC4B-2DBE5707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3C088-480D-4D60-96B5-B9B8DCAF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353E2-C93B-4AA9-809F-38763A9E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B7CBD-A722-4671-ABA8-D89490BC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D208-FC49-4A6C-875A-0BA73670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8D919-3B45-48CD-A108-85174064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732FB-07F2-4B18-88A4-185727E4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C6C49-ED63-4C59-8106-FDFA6FD6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6823F-D225-4D80-BC27-7D1C4548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01492-1DD4-4C7D-8830-0E9A1DDE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93CE8-5B18-4972-B97B-3E780B77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24204-B8D7-4248-8130-F7DA7E9F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9EDF5-0B9E-46F1-8B7A-3F00534B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86DF2-65AA-4CA9-BF9E-D3A43FCE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6303D-F356-4584-BEF3-009526CB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5D44-BAFA-42E6-A8E4-2DCD4FE1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85D95-730C-4EAB-B251-972A3513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AA440-997F-4613-8585-6720B095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9137A-83A9-49E7-830C-1B4DBE99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F3900-2CE3-4378-BBC3-8AEA859C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154BC-EDCA-481A-BA76-86A206E7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4B05D-CCB1-42F0-9AE7-29781F4D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52532-078E-4BD6-97BE-809BFF62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155BD-A0C2-4C4C-A7BB-D2035F5B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D373D-E2C6-42EC-9B1E-B07688E4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3D12E-3FBC-45F9-84C8-BE46F127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7300-9244-4A38-9C7E-6CA0E8DF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3EE20-384F-48FF-8266-C3575932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DD16B-E072-4901-A7DA-8A2CDA18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084A0-71F9-4DF5-9469-F7F7BFEF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4A7C3-5A92-47FF-96C3-077A4741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52ECB-DE7E-4C44-95D9-777018F4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28EB6-553D-4196-A76F-CB32BDE5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F1EF5-62B7-4BE4-A6F0-83AB14E8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610BB-597F-499A-B8A0-FFD4AA49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AAEF2-C081-4D48-AD9B-18E7615C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0E331-121F-4DD5-9160-77F9AFBA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F022-7124-4DBF-AC8D-BD4A905A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BB9D8-BCD2-46F4-815D-3F8C282F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0224E-F16C-4CA2-BF69-E59D0979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2CFF3-23AC-469A-A1A9-0D8E99B0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2540B-6493-4265-8A5C-E1D57845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3371E-E7FE-476A-9B41-7F8979DE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C647A-14DB-49B6-B3A1-99D80362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A2571-2C3B-473E-A2DC-B2DBD3D9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93D3E-A68F-4B23-A025-7E48196B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3246F-3283-4CD2-8A85-A07268AC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368C8-9FB5-42BE-9A14-C095E6DD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3DD3-F8D7-44AB-A822-E5185345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B2EFC-7838-46A6-97AD-A71A1288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3EF23-AD17-4570-AB5E-B925CA21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EFEF7-B4CE-47C6-AFA5-EBDA3507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C998B-4E78-472A-98FB-2AE6B174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10269-7A96-4A17-BC69-959A180C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1EB55-422C-4B7A-A7F4-D12D8F53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571C1-E40D-4B4D-AEB8-2EEF413A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537FC-AF64-4268-8613-1CD9A514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0CD73-629C-49E7-A93B-597570C3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49150-F9AB-4CB1-803E-7823017E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B394-AFDA-4DB7-BFF5-ED7988BA5BF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3CD6-6C37-4A0C-953E-C8EAF3262B5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E379-67DE-4F5B-9B81-F251D917CD58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3313-0AD5-4A6B-B768-C1DEF6FB33A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CC77-3234-427C-8C08-BE43931590C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B379-5058-4C42-8459-3E35A5A34AC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3F07-6E27-48C1-819B-ADC5F54045A9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41FC-A2FD-42EF-A3E0-CE957B86E36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D43C-46D6-401A-BE07-8C5A417549D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2268-D4CD-42C5-97FD-AD879764397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A4B7-9536-4367-B3B3-35F51AF580B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6059-EF73-48E5-A9B4-3FBCC2DEDA4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11D9-479B-49B2-BF5F-D27577D4F305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ED58-5E51-4C83-B9A7-2219DE783AF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C06C-C6F2-49F2-AD82-7FE82A83CCA7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B6BC-7BCB-4BED-98E6-4BDF8270966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886F-438B-48A8-A4B5-992ECE7900DE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5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5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EB45-DC96-4922-B256-C87978406A7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5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F5A6-A733-4BFD-9341-D6BEC4C0FF40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5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5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893A-31E1-433A-9ADA-A3D6A52925F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6F42-0CFE-4376-A174-BDB014B66517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3651-8796-4293-87CA-1B0D52889B2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35E2-EE3C-47DA-BE10-0F28C8988F4E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1F32-602A-4A01-A4FC-E1337E08B99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4C16-94A1-4852-9510-2F2F6A011550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3455-5B05-4BAE-A287-B52C6D9063F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343F-9A0C-4911-86CC-E79BDC0A3A75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EFF4-1584-4CBC-B494-2538BB0CB37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67D5-6496-4F4E-87C3-CD537BE2F75E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BFA2-239D-4271-8070-DA7AF9EBA72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F332-401D-468E-958D-FE65893298EE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FCD4-56C1-423F-96B5-F23FE396F69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49B8-47C2-4469-A8A3-978F0E4C11F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5B8A-7AF5-43E0-9ED9-01DAA345680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F2FB-F02F-482A-A6CA-085AA1BB90C2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F68A-E30C-4132-9B38-05E7A5461AB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0BDC-F52F-440B-8F63-C6593C0BA1F5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7CF8-A599-4E8B-B44F-A888CE6EE20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1 Rectángulo"/>
          <p:cNvSpPr/>
          <p:nvPr/>
        </p:nvSpPr>
        <p:spPr>
          <a:xfrm>
            <a:off x="611280" y="549360"/>
            <a:ext cx="7921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 Rounded MT Bold"/>
              </a:rPr>
              <a:t>Bolilla 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00"/>
                </a:solidFill>
                <a:uFillTx/>
                <a:latin typeface="Arial Rounded MT Bold"/>
              </a:rPr>
              <a:t>Metabolismo de los líp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 Rounded MT Bold"/>
              </a:rPr>
              <a:t>- </a:t>
            </a: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Digestión y absorción de lípi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59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Transporte de lípi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59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Degradación de Ácidos Gras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59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Cuerpos cetónic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 Rounded MT Bold"/>
              </a:rPr>
              <a:t>Biosíntesis de Ácidos Gra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 Rounded MT Bold"/>
              </a:rPr>
              <a:t>- Metabolismo del colesterol. Regulación molecu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F8C2-D308-4724-98E4-2B3E64595BDD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91640" y="609120"/>
            <a:ext cx="812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 Narrow"/>
              </a:rPr>
              <a:t>Etapas de la Síntesis de Ac. Gras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871280" y="2384280"/>
            <a:ext cx="664380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Compren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Formación de malonil-Co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acciones catalizadas por el complejo multienzimático de 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Ácido graso sinta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6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5F96-9C2F-4AB8-A910-3E640AFFB189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83800" y="21564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00"/>
                </a:solidFill>
                <a:latin typeface="Arial Narrow"/>
              </a:rPr>
              <a:t>1) Formación de malonil-Co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317080" cy="24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una carboxilación que requiere H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como fuente de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taliza: 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 usa biotina (Vit B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 como coenz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s el principal sitio de regulación de la síntesis d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1" name="Object 4"/>
          <p:cNvGraphicFramePr/>
          <p:nvPr/>
        </p:nvGraphicFramePr>
        <p:xfrm>
          <a:off x="431640" y="4365720"/>
          <a:ext cx="8282160" cy="13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365720"/>
                    <a:ext cx="828216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ángulo 15"/>
          <p:cNvSpPr/>
          <p:nvPr/>
        </p:nvSpPr>
        <p:spPr>
          <a:xfrm rot="5400000">
            <a:off x="3201120" y="3319920"/>
            <a:ext cx="647640" cy="144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Cuadro de texto 17"/>
          <p:cNvSpPr/>
          <p:nvPr/>
        </p:nvSpPr>
        <p:spPr>
          <a:xfrm>
            <a:off x="687240" y="1197000"/>
            <a:ext cx="7704360" cy="26845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cetil-CoA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Proteína transportadora de bio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Biotina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Trans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 Enzima Alosté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Cuadro de texto 23"/>
          <p:cNvSpPr/>
          <p:nvPr/>
        </p:nvSpPr>
        <p:spPr>
          <a:xfrm>
            <a:off x="1744560" y="333360"/>
            <a:ext cx="5761080" cy="581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Acetil-CoA Carboxila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Rectángulo 24"/>
          <p:cNvSpPr/>
          <p:nvPr/>
        </p:nvSpPr>
        <p:spPr>
          <a:xfrm>
            <a:off x="687240" y="4351320"/>
            <a:ext cx="759636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Biotina: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 Grupo prostético de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acetil-CoA Carboxila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1 CuadroTexto"/>
          <p:cNvSpPr/>
          <p:nvPr/>
        </p:nvSpPr>
        <p:spPr>
          <a:xfrm>
            <a:off x="1752840" y="5732640"/>
            <a:ext cx="632844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  <a:ea typeface="Arial"/>
              </a:rPr>
              <a:t>TAMBIEN TIENE REGULACIÓN HORMONAL Y DIET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ángulo 4"/>
          <p:cNvSpPr/>
          <p:nvPr/>
        </p:nvSpPr>
        <p:spPr>
          <a:xfrm>
            <a:off x="25092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REACCION Y REGULACIÓN DE LA 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ACETIL-CoA CARBOXILASA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Cuadro de texto 5"/>
          <p:cNvSpPr/>
          <p:nvPr/>
        </p:nvSpPr>
        <p:spPr>
          <a:xfrm>
            <a:off x="208080" y="3071880"/>
            <a:ext cx="14475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cet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Cuadro de texto 6"/>
          <p:cNvSpPr/>
          <p:nvPr/>
        </p:nvSpPr>
        <p:spPr>
          <a:xfrm>
            <a:off x="3203640" y="3284640"/>
            <a:ext cx="1655640" cy="71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Acetil-CoA carboxil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Cuadro de texto 7"/>
          <p:cNvSpPr/>
          <p:nvPr/>
        </p:nvSpPr>
        <p:spPr>
          <a:xfrm>
            <a:off x="2340000" y="3068640"/>
            <a:ext cx="838080" cy="405720"/>
          </a:xfrm>
          <a:prstGeom prst="rect">
            <a:avLst/>
          </a:prstGeom>
          <a:solidFill>
            <a:srgbClr val="f9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HCO</a:t>
            </a:r>
            <a:r>
              <a:rPr b="1" lang="es-ES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r>
              <a:rPr b="1" lang="es-ES" sz="1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Cuadro de texto 9"/>
          <p:cNvSpPr/>
          <p:nvPr/>
        </p:nvSpPr>
        <p:spPr>
          <a:xfrm>
            <a:off x="6084720" y="4005360"/>
            <a:ext cx="172728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alon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Cuadro de texto 10"/>
          <p:cNvSpPr/>
          <p:nvPr/>
        </p:nvSpPr>
        <p:spPr>
          <a:xfrm>
            <a:off x="324000" y="2852640"/>
            <a:ext cx="194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Imagen 11"/>
          <p:cNvSpPr/>
          <p:nvPr/>
        </p:nvSpPr>
        <p:spPr>
          <a:xfrm>
            <a:off x="250920" y="2565360"/>
            <a:ext cx="20113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Línea 12"/>
          <p:cNvSpPr/>
          <p:nvPr/>
        </p:nvSpPr>
        <p:spPr>
          <a:xfrm>
            <a:off x="3276720" y="3284640"/>
            <a:ext cx="194616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Cuadro de texto 13"/>
          <p:cNvSpPr/>
          <p:nvPr/>
        </p:nvSpPr>
        <p:spPr>
          <a:xfrm>
            <a:off x="3276720" y="2781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ATP      ADP + P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Autoforma 14"/>
          <p:cNvSpPr/>
          <p:nvPr/>
        </p:nvSpPr>
        <p:spPr>
          <a:xfrm>
            <a:off x="3708360" y="3068640"/>
            <a:ext cx="792360" cy="216000"/>
          </a:xfrm>
          <a:custGeom>
            <a:avLst/>
            <a:gdLst>
              <a:gd name="textAreaLeft" fmla="*/ 138600 w 792360"/>
              <a:gd name="textAreaRight" fmla="*/ 574560 w 792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Cuadro de texto 16"/>
          <p:cNvSpPr/>
          <p:nvPr/>
        </p:nvSpPr>
        <p:spPr>
          <a:xfrm>
            <a:off x="1692360" y="306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9" name="Grupo 20"/>
          <p:cNvGrpSpPr/>
          <p:nvPr/>
        </p:nvGrpSpPr>
        <p:grpSpPr>
          <a:xfrm>
            <a:off x="5292720" y="2276640"/>
            <a:ext cx="3959280" cy="1617480"/>
            <a:chOff x="5292720" y="2276640"/>
            <a:chExt cx="3959280" cy="1617480"/>
          </a:xfrm>
        </p:grpSpPr>
        <p:pic>
          <p:nvPicPr>
            <p:cNvPr id="900" name="Imagen 17" descr="MALONCOA"/>
            <p:cNvPicPr/>
            <p:nvPr/>
          </p:nvPicPr>
          <p:blipFill>
            <a:blip r:embed="rId1"/>
            <a:srcRect l="0" t="0" r="17937" b="18488"/>
            <a:stretch/>
          </p:blipFill>
          <p:spPr>
            <a:xfrm>
              <a:off x="5292720" y="2276640"/>
              <a:ext cx="3166920" cy="16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Cuadro de texto 19"/>
            <p:cNvSpPr/>
            <p:nvPr/>
          </p:nvSpPr>
          <p:spPr>
            <a:xfrm>
              <a:off x="8459640" y="29242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 H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2" name="Cuadro de texto 22"/>
          <p:cNvSpPr/>
          <p:nvPr/>
        </p:nvSpPr>
        <p:spPr>
          <a:xfrm>
            <a:off x="5219640" y="2349360"/>
            <a:ext cx="136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Cuadro de texto 24"/>
          <p:cNvSpPr/>
          <p:nvPr/>
        </p:nvSpPr>
        <p:spPr>
          <a:xfrm>
            <a:off x="826920" y="5157720"/>
            <a:ext cx="1656000" cy="71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Acetil-CoA carboxil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Autoforma 25"/>
          <p:cNvSpPr/>
          <p:nvPr/>
        </p:nvSpPr>
        <p:spPr>
          <a:xfrm>
            <a:off x="2843280" y="4581360"/>
            <a:ext cx="504720" cy="1872000"/>
          </a:xfrm>
          <a:custGeom>
            <a:avLst/>
            <a:gdLst>
              <a:gd name="textAreaLeft" fmla="*/ 322560 w 504720"/>
              <a:gd name="textAreaRight" fmla="*/ 505080 w 504720"/>
              <a:gd name="textAreaTop" fmla="*/ 48600 h 1872000"/>
              <a:gd name="textAreaBottom" fmla="*/ 182340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Cuadro de texto 26"/>
          <p:cNvSpPr/>
          <p:nvPr/>
        </p:nvSpPr>
        <p:spPr>
          <a:xfrm rot="20057400">
            <a:off x="4354200" y="3860640"/>
            <a:ext cx="1079640" cy="368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  <a:ea typeface="Arial"/>
              </a:rPr>
              <a:t>biot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Cuadro de texto 27"/>
          <p:cNvSpPr/>
          <p:nvPr/>
        </p:nvSpPr>
        <p:spPr>
          <a:xfrm>
            <a:off x="3203640" y="5084640"/>
            <a:ext cx="1224000" cy="368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ím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Cuadro de texto 28"/>
          <p:cNvSpPr/>
          <p:nvPr/>
        </p:nvSpPr>
        <p:spPr>
          <a:xfrm>
            <a:off x="6732720" y="5013360"/>
            <a:ext cx="208728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Forma filamento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Línea 29"/>
          <p:cNvSpPr/>
          <p:nvPr/>
        </p:nvSpPr>
        <p:spPr>
          <a:xfrm>
            <a:off x="4932360" y="5229360"/>
            <a:ext cx="12240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Elipse 30"/>
          <p:cNvSpPr/>
          <p:nvPr/>
        </p:nvSpPr>
        <p:spPr>
          <a:xfrm>
            <a:off x="4896000" y="4653000"/>
            <a:ext cx="1188720" cy="57636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Arial"/>
              </a:rPr>
              <a:t>Citrato (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Elipse 31"/>
          <p:cNvSpPr/>
          <p:nvPr/>
        </p:nvSpPr>
        <p:spPr>
          <a:xfrm>
            <a:off x="3348000" y="551664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Inac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Elipse 32"/>
          <p:cNvSpPr/>
          <p:nvPr/>
        </p:nvSpPr>
        <p:spPr>
          <a:xfrm>
            <a:off x="7308720" y="566100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Ac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Línea 33"/>
          <p:cNvSpPr/>
          <p:nvPr/>
        </p:nvSpPr>
        <p:spPr>
          <a:xfrm flipH="1">
            <a:off x="5003280" y="5445000"/>
            <a:ext cx="10810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Elipse 34"/>
          <p:cNvSpPr/>
          <p:nvPr/>
        </p:nvSpPr>
        <p:spPr>
          <a:xfrm>
            <a:off x="4859280" y="5516640"/>
            <a:ext cx="1871640" cy="7920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  <a:ea typeface="Arial"/>
              </a:rPr>
              <a:t>AG de caden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  <a:ea typeface="Arial"/>
              </a:rPr>
              <a:t>Larga (-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4EB8-F8AD-4581-873B-367914CD7CF3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72600" y="17892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Arial Narrow"/>
              </a:rPr>
              <a:t>2) Reacciones de la acido graso sintasa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476360" y="1412640"/>
            <a:ext cx="7439040" cy="49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taliza la síntesis de AG de hasta 16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ormada por 2 subunidades idénticas con orientación opuesta, cada una con 3 domini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minio 1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ingreso de sustratos y unidad de condensación. Contiene 3 enzim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ff00"/>
                </a:solidFill>
                <a:latin typeface="Arial"/>
              </a:rPr>
              <a:t>Acetil transferasa (A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Malonil transferasa (M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ffff"/>
                </a:solidFill>
                <a:latin typeface="Arial"/>
              </a:rPr>
              <a:t>Enzima condensante (KS) o Cetoacil sintasa con resto de Cisteí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minio 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unidad de reducción. Contiene 3 enzim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33"/>
                </a:solidFill>
                <a:latin typeface="Arial"/>
              </a:rPr>
              <a:t>Cetoacil reductasa (K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idroxiacil deshidratasa (H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Enoil reductasa (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see la proteína transportadora de acilos AC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minio 3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liberación de AG. Posee la enzim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33"/>
                </a:solidFill>
                <a:latin typeface="Arial"/>
              </a:rPr>
              <a:t>Tioesterasa o Deacilas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7" name="Picture 16" descr=""/>
          <p:cNvPicPr/>
          <p:nvPr/>
        </p:nvPicPr>
        <p:blipFill>
          <a:blip r:embed="rId1"/>
          <a:srcRect l="27852" t="0" r="4160" b="59988"/>
          <a:stretch/>
        </p:blipFill>
        <p:spPr>
          <a:xfrm>
            <a:off x="154080" y="3130560"/>
            <a:ext cx="2300040" cy="2162160"/>
          </a:xfrm>
          <a:prstGeom prst="rect">
            <a:avLst/>
          </a:prstGeom>
          <a:ln w="0">
            <a:noFill/>
          </a:ln>
        </p:spPr>
      </p:pic>
      <p:sp>
        <p:nvSpPr>
          <p:cNvPr id="918" name="6 CuadroTexto"/>
          <p:cNvSpPr/>
          <p:nvPr/>
        </p:nvSpPr>
        <p:spPr>
          <a:xfrm>
            <a:off x="191160" y="532764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Una subunidad de Acid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Graso Sintetas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Forma libre 137"/>
          <p:cNvSpPr/>
          <p:nvPr/>
        </p:nvSpPr>
        <p:spPr>
          <a:xfrm>
            <a:off x="4525920" y="4741920"/>
            <a:ext cx="4187880" cy="1631880"/>
          </a:xfrm>
          <a:custGeom>
            <a:avLst/>
            <a:gdLst/>
            <a:ahLst/>
            <a:rect l="l" t="t" r="r" b="b"/>
            <a:pathLst>
              <a:path w="2638" h="1028">
                <a:moveTo>
                  <a:pt x="269" y="469"/>
                </a:moveTo>
                <a:cubicBezTo>
                  <a:pt x="197" y="525"/>
                  <a:pt x="0" y="667"/>
                  <a:pt x="29" y="757"/>
                </a:cubicBezTo>
                <a:cubicBezTo>
                  <a:pt x="58" y="847"/>
                  <a:pt x="278" y="996"/>
                  <a:pt x="446" y="1012"/>
                </a:cubicBezTo>
                <a:cubicBezTo>
                  <a:pt x="614" y="1028"/>
                  <a:pt x="934" y="909"/>
                  <a:pt x="1037" y="853"/>
                </a:cubicBezTo>
                <a:cubicBezTo>
                  <a:pt x="1140" y="797"/>
                  <a:pt x="1000" y="686"/>
                  <a:pt x="1064" y="678"/>
                </a:cubicBezTo>
                <a:cubicBezTo>
                  <a:pt x="1128" y="670"/>
                  <a:pt x="1269" y="804"/>
                  <a:pt x="1421" y="805"/>
                </a:cubicBezTo>
                <a:cubicBezTo>
                  <a:pt x="1573" y="806"/>
                  <a:pt x="1894" y="750"/>
                  <a:pt x="1974" y="686"/>
                </a:cubicBezTo>
                <a:cubicBezTo>
                  <a:pt x="2054" y="622"/>
                  <a:pt x="1809" y="457"/>
                  <a:pt x="1901" y="421"/>
                </a:cubicBezTo>
                <a:cubicBezTo>
                  <a:pt x="1993" y="385"/>
                  <a:pt x="2421" y="528"/>
                  <a:pt x="2525" y="469"/>
                </a:cubicBezTo>
                <a:cubicBezTo>
                  <a:pt x="2629" y="410"/>
                  <a:pt x="2638" y="136"/>
                  <a:pt x="2525" y="68"/>
                </a:cubicBezTo>
                <a:cubicBezTo>
                  <a:pt x="2412" y="0"/>
                  <a:pt x="1969" y="9"/>
                  <a:pt x="1849" y="60"/>
                </a:cubicBezTo>
                <a:cubicBezTo>
                  <a:pt x="1729" y="111"/>
                  <a:pt x="1852" y="329"/>
                  <a:pt x="1805" y="373"/>
                </a:cubicBezTo>
                <a:cubicBezTo>
                  <a:pt x="1758" y="417"/>
                  <a:pt x="1669" y="333"/>
                  <a:pt x="1565" y="325"/>
                </a:cubicBezTo>
                <a:cubicBezTo>
                  <a:pt x="1461" y="317"/>
                  <a:pt x="1276" y="287"/>
                  <a:pt x="1181" y="325"/>
                </a:cubicBezTo>
                <a:cubicBezTo>
                  <a:pt x="1086" y="363"/>
                  <a:pt x="1061" y="531"/>
                  <a:pt x="997" y="552"/>
                </a:cubicBezTo>
                <a:cubicBezTo>
                  <a:pt x="933" y="573"/>
                  <a:pt x="886" y="474"/>
                  <a:pt x="797" y="452"/>
                </a:cubicBezTo>
                <a:cubicBezTo>
                  <a:pt x="708" y="430"/>
                  <a:pt x="549" y="418"/>
                  <a:pt x="461" y="421"/>
                </a:cubicBezTo>
                <a:cubicBezTo>
                  <a:pt x="373" y="424"/>
                  <a:pt x="341" y="413"/>
                  <a:pt x="269" y="469"/>
                </a:cubicBez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Forma libre 136"/>
          <p:cNvSpPr/>
          <p:nvPr/>
        </p:nvSpPr>
        <p:spPr>
          <a:xfrm>
            <a:off x="-11160" y="4925880"/>
            <a:ext cx="4233960" cy="1703520"/>
          </a:xfrm>
          <a:custGeom>
            <a:avLst/>
            <a:gdLst/>
            <a:ahLst/>
            <a:rect l="l" t="t" r="r" b="b"/>
            <a:pathLst>
              <a:path w="2667" h="1073">
                <a:moveTo>
                  <a:pt x="274" y="161"/>
                </a:moveTo>
                <a:cubicBezTo>
                  <a:pt x="199" y="221"/>
                  <a:pt x="48" y="318"/>
                  <a:pt x="24" y="445"/>
                </a:cubicBezTo>
                <a:cubicBezTo>
                  <a:pt x="0" y="572"/>
                  <a:pt x="54" y="936"/>
                  <a:pt x="132" y="921"/>
                </a:cubicBezTo>
                <a:cubicBezTo>
                  <a:pt x="210" y="906"/>
                  <a:pt x="410" y="354"/>
                  <a:pt x="491" y="353"/>
                </a:cubicBezTo>
                <a:cubicBezTo>
                  <a:pt x="572" y="352"/>
                  <a:pt x="489" y="797"/>
                  <a:pt x="619" y="914"/>
                </a:cubicBezTo>
                <a:cubicBezTo>
                  <a:pt x="749" y="1031"/>
                  <a:pt x="1148" y="1070"/>
                  <a:pt x="1268" y="1054"/>
                </a:cubicBezTo>
                <a:cubicBezTo>
                  <a:pt x="1388" y="1038"/>
                  <a:pt x="1299" y="819"/>
                  <a:pt x="1339" y="818"/>
                </a:cubicBezTo>
                <a:cubicBezTo>
                  <a:pt x="1379" y="817"/>
                  <a:pt x="1372" y="1023"/>
                  <a:pt x="1506" y="1048"/>
                </a:cubicBezTo>
                <a:cubicBezTo>
                  <a:pt x="1640" y="1073"/>
                  <a:pt x="2068" y="1025"/>
                  <a:pt x="2144" y="971"/>
                </a:cubicBezTo>
                <a:cubicBezTo>
                  <a:pt x="2220" y="917"/>
                  <a:pt x="1894" y="750"/>
                  <a:pt x="1963" y="722"/>
                </a:cubicBezTo>
                <a:cubicBezTo>
                  <a:pt x="2032" y="694"/>
                  <a:pt x="2455" y="828"/>
                  <a:pt x="2561" y="804"/>
                </a:cubicBezTo>
                <a:cubicBezTo>
                  <a:pt x="2667" y="780"/>
                  <a:pt x="2644" y="650"/>
                  <a:pt x="2600" y="580"/>
                </a:cubicBezTo>
                <a:cubicBezTo>
                  <a:pt x="2556" y="510"/>
                  <a:pt x="2404" y="408"/>
                  <a:pt x="2299" y="386"/>
                </a:cubicBezTo>
                <a:cubicBezTo>
                  <a:pt x="2194" y="364"/>
                  <a:pt x="2055" y="413"/>
                  <a:pt x="1969" y="445"/>
                </a:cubicBezTo>
                <a:cubicBezTo>
                  <a:pt x="1883" y="477"/>
                  <a:pt x="1887" y="531"/>
                  <a:pt x="1785" y="578"/>
                </a:cubicBezTo>
                <a:cubicBezTo>
                  <a:pt x="1683" y="625"/>
                  <a:pt x="1451" y="731"/>
                  <a:pt x="1359" y="729"/>
                </a:cubicBezTo>
                <a:cubicBezTo>
                  <a:pt x="1267" y="727"/>
                  <a:pt x="1307" y="595"/>
                  <a:pt x="1230" y="563"/>
                </a:cubicBezTo>
                <a:cubicBezTo>
                  <a:pt x="1153" y="531"/>
                  <a:pt x="967" y="552"/>
                  <a:pt x="897" y="538"/>
                </a:cubicBezTo>
                <a:cubicBezTo>
                  <a:pt x="827" y="524"/>
                  <a:pt x="801" y="515"/>
                  <a:pt x="811" y="482"/>
                </a:cubicBezTo>
                <a:cubicBezTo>
                  <a:pt x="821" y="449"/>
                  <a:pt x="939" y="402"/>
                  <a:pt x="955" y="338"/>
                </a:cubicBezTo>
                <a:cubicBezTo>
                  <a:pt x="971" y="274"/>
                  <a:pt x="963" y="154"/>
                  <a:pt x="907" y="98"/>
                </a:cubicBezTo>
                <a:cubicBezTo>
                  <a:pt x="851" y="42"/>
                  <a:pt x="691" y="4"/>
                  <a:pt x="619" y="2"/>
                </a:cubicBezTo>
                <a:cubicBezTo>
                  <a:pt x="547" y="0"/>
                  <a:pt x="531" y="60"/>
                  <a:pt x="474" y="86"/>
                </a:cubicBezTo>
                <a:cubicBezTo>
                  <a:pt x="417" y="112"/>
                  <a:pt x="316" y="146"/>
                  <a:pt x="274" y="161"/>
                </a:cubicBez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Cuadro de texto 115"/>
          <p:cNvSpPr/>
          <p:nvPr/>
        </p:nvSpPr>
        <p:spPr>
          <a:xfrm>
            <a:off x="762120" y="31240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Cis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Elipse 44"/>
          <p:cNvSpPr/>
          <p:nvPr/>
        </p:nvSpPr>
        <p:spPr>
          <a:xfrm>
            <a:off x="3352680" y="2514600"/>
            <a:ext cx="2210040" cy="600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ubunidad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Cuadro de texto 75"/>
          <p:cNvSpPr/>
          <p:nvPr/>
        </p:nvSpPr>
        <p:spPr>
          <a:xfrm>
            <a:off x="7315200" y="28195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4´Fosfo  pante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Forma libre 117"/>
          <p:cNvSpPr/>
          <p:nvPr/>
        </p:nvSpPr>
        <p:spPr>
          <a:xfrm>
            <a:off x="4325760" y="1244520"/>
            <a:ext cx="4818240" cy="1766880"/>
          </a:xfrm>
          <a:custGeom>
            <a:avLst/>
            <a:gdLst/>
            <a:ahLst/>
            <a:rect l="l" t="t" r="r" b="b"/>
            <a:pathLst>
              <a:path w="3035" h="1113">
                <a:moveTo>
                  <a:pt x="97" y="51"/>
                </a:moveTo>
                <a:cubicBezTo>
                  <a:pt x="0" y="102"/>
                  <a:pt x="0" y="304"/>
                  <a:pt x="72" y="368"/>
                </a:cubicBezTo>
                <a:cubicBezTo>
                  <a:pt x="144" y="432"/>
                  <a:pt x="429" y="379"/>
                  <a:pt x="531" y="435"/>
                </a:cubicBezTo>
                <a:cubicBezTo>
                  <a:pt x="633" y="491"/>
                  <a:pt x="575" y="653"/>
                  <a:pt x="681" y="702"/>
                </a:cubicBezTo>
                <a:cubicBezTo>
                  <a:pt x="787" y="751"/>
                  <a:pt x="1089" y="668"/>
                  <a:pt x="1165" y="727"/>
                </a:cubicBezTo>
                <a:cubicBezTo>
                  <a:pt x="1241" y="786"/>
                  <a:pt x="1020" y="993"/>
                  <a:pt x="1140" y="1053"/>
                </a:cubicBezTo>
                <a:cubicBezTo>
                  <a:pt x="1260" y="1113"/>
                  <a:pt x="1744" y="1105"/>
                  <a:pt x="1883" y="1088"/>
                </a:cubicBezTo>
                <a:cubicBezTo>
                  <a:pt x="2022" y="1071"/>
                  <a:pt x="1887" y="968"/>
                  <a:pt x="1975" y="952"/>
                </a:cubicBezTo>
                <a:cubicBezTo>
                  <a:pt x="2063" y="936"/>
                  <a:pt x="2332" y="1002"/>
                  <a:pt x="2411" y="992"/>
                </a:cubicBezTo>
                <a:cubicBezTo>
                  <a:pt x="2490" y="982"/>
                  <a:pt x="2446" y="923"/>
                  <a:pt x="2451" y="894"/>
                </a:cubicBezTo>
                <a:cubicBezTo>
                  <a:pt x="2456" y="865"/>
                  <a:pt x="2385" y="835"/>
                  <a:pt x="2442" y="819"/>
                </a:cubicBezTo>
                <a:cubicBezTo>
                  <a:pt x="2499" y="803"/>
                  <a:pt x="2699" y="821"/>
                  <a:pt x="2795" y="800"/>
                </a:cubicBezTo>
                <a:cubicBezTo>
                  <a:pt x="2891" y="779"/>
                  <a:pt x="3035" y="751"/>
                  <a:pt x="3018" y="694"/>
                </a:cubicBezTo>
                <a:cubicBezTo>
                  <a:pt x="3001" y="637"/>
                  <a:pt x="2769" y="505"/>
                  <a:pt x="2693" y="460"/>
                </a:cubicBezTo>
                <a:cubicBezTo>
                  <a:pt x="2617" y="415"/>
                  <a:pt x="2616" y="429"/>
                  <a:pt x="2559" y="426"/>
                </a:cubicBezTo>
                <a:cubicBezTo>
                  <a:pt x="2502" y="423"/>
                  <a:pt x="2407" y="417"/>
                  <a:pt x="2350" y="443"/>
                </a:cubicBezTo>
                <a:cubicBezTo>
                  <a:pt x="2293" y="469"/>
                  <a:pt x="2242" y="541"/>
                  <a:pt x="2217" y="585"/>
                </a:cubicBezTo>
                <a:cubicBezTo>
                  <a:pt x="2192" y="629"/>
                  <a:pt x="2242" y="670"/>
                  <a:pt x="2200" y="710"/>
                </a:cubicBezTo>
                <a:cubicBezTo>
                  <a:pt x="2158" y="750"/>
                  <a:pt x="2034" y="820"/>
                  <a:pt x="1966" y="827"/>
                </a:cubicBezTo>
                <a:cubicBezTo>
                  <a:pt x="1898" y="834"/>
                  <a:pt x="1859" y="773"/>
                  <a:pt x="1791" y="752"/>
                </a:cubicBezTo>
                <a:cubicBezTo>
                  <a:pt x="1723" y="731"/>
                  <a:pt x="1614" y="726"/>
                  <a:pt x="1557" y="702"/>
                </a:cubicBezTo>
                <a:cubicBezTo>
                  <a:pt x="1500" y="678"/>
                  <a:pt x="1487" y="661"/>
                  <a:pt x="1451" y="608"/>
                </a:cubicBezTo>
                <a:cubicBezTo>
                  <a:pt x="1415" y="555"/>
                  <a:pt x="1403" y="436"/>
                  <a:pt x="1340" y="385"/>
                </a:cubicBezTo>
                <a:cubicBezTo>
                  <a:pt x="1277" y="334"/>
                  <a:pt x="1158" y="320"/>
                  <a:pt x="1073" y="301"/>
                </a:cubicBezTo>
                <a:cubicBezTo>
                  <a:pt x="988" y="282"/>
                  <a:pt x="897" y="312"/>
                  <a:pt x="827" y="272"/>
                </a:cubicBezTo>
                <a:cubicBezTo>
                  <a:pt x="757" y="232"/>
                  <a:pt x="778" y="96"/>
                  <a:pt x="656" y="59"/>
                </a:cubicBezTo>
                <a:cubicBezTo>
                  <a:pt x="534" y="22"/>
                  <a:pt x="194" y="0"/>
                  <a:pt x="97" y="51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Forma libre 58"/>
          <p:cNvSpPr/>
          <p:nvPr/>
        </p:nvSpPr>
        <p:spPr>
          <a:xfrm>
            <a:off x="585720" y="1424160"/>
            <a:ext cx="3611520" cy="1671480"/>
          </a:xfrm>
          <a:custGeom>
            <a:avLst/>
            <a:gdLst/>
            <a:ahLst/>
            <a:rect l="l" t="t" r="r" b="b"/>
            <a:pathLst>
              <a:path w="2275" h="1053">
                <a:moveTo>
                  <a:pt x="104" y="989"/>
                </a:moveTo>
                <a:cubicBezTo>
                  <a:pt x="208" y="1053"/>
                  <a:pt x="575" y="999"/>
                  <a:pt x="680" y="941"/>
                </a:cubicBezTo>
                <a:cubicBezTo>
                  <a:pt x="785" y="883"/>
                  <a:pt x="731" y="707"/>
                  <a:pt x="735" y="639"/>
                </a:cubicBezTo>
                <a:cubicBezTo>
                  <a:pt x="739" y="571"/>
                  <a:pt x="666" y="549"/>
                  <a:pt x="704" y="531"/>
                </a:cubicBezTo>
                <a:cubicBezTo>
                  <a:pt x="742" y="513"/>
                  <a:pt x="852" y="545"/>
                  <a:pt x="964" y="531"/>
                </a:cubicBezTo>
                <a:cubicBezTo>
                  <a:pt x="1076" y="517"/>
                  <a:pt x="1292" y="448"/>
                  <a:pt x="1375" y="444"/>
                </a:cubicBezTo>
                <a:cubicBezTo>
                  <a:pt x="1458" y="440"/>
                  <a:pt x="1448" y="497"/>
                  <a:pt x="1462" y="507"/>
                </a:cubicBezTo>
                <a:cubicBezTo>
                  <a:pt x="1476" y="517"/>
                  <a:pt x="1442" y="506"/>
                  <a:pt x="1462" y="507"/>
                </a:cubicBezTo>
                <a:cubicBezTo>
                  <a:pt x="1482" y="508"/>
                  <a:pt x="1461" y="509"/>
                  <a:pt x="1580" y="515"/>
                </a:cubicBezTo>
                <a:cubicBezTo>
                  <a:pt x="1699" y="521"/>
                  <a:pt x="2075" y="607"/>
                  <a:pt x="2175" y="543"/>
                </a:cubicBezTo>
                <a:cubicBezTo>
                  <a:pt x="2275" y="479"/>
                  <a:pt x="2238" y="206"/>
                  <a:pt x="2180" y="129"/>
                </a:cubicBezTo>
                <a:cubicBezTo>
                  <a:pt x="2122" y="52"/>
                  <a:pt x="1938" y="71"/>
                  <a:pt x="1825" y="81"/>
                </a:cubicBezTo>
                <a:cubicBezTo>
                  <a:pt x="1712" y="91"/>
                  <a:pt x="1584" y="189"/>
                  <a:pt x="1501" y="192"/>
                </a:cubicBezTo>
                <a:cubicBezTo>
                  <a:pt x="1418" y="195"/>
                  <a:pt x="1481" y="119"/>
                  <a:pt x="1327" y="97"/>
                </a:cubicBezTo>
                <a:cubicBezTo>
                  <a:pt x="1173" y="75"/>
                  <a:pt x="725" y="0"/>
                  <a:pt x="578" y="58"/>
                </a:cubicBezTo>
                <a:cubicBezTo>
                  <a:pt x="431" y="116"/>
                  <a:pt x="534" y="364"/>
                  <a:pt x="447" y="447"/>
                </a:cubicBezTo>
                <a:cubicBezTo>
                  <a:pt x="360" y="530"/>
                  <a:pt x="114" y="465"/>
                  <a:pt x="57" y="555"/>
                </a:cubicBezTo>
                <a:cubicBezTo>
                  <a:pt x="0" y="645"/>
                  <a:pt x="0" y="925"/>
                  <a:pt x="104" y="989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Elipse 55"/>
          <p:cNvSpPr/>
          <p:nvPr/>
        </p:nvSpPr>
        <p:spPr>
          <a:xfrm>
            <a:off x="3344760" y="4808520"/>
            <a:ext cx="2451240" cy="601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ubunidad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Cuadro de texto 54"/>
          <p:cNvSpPr/>
          <p:nvPr/>
        </p:nvSpPr>
        <p:spPr>
          <a:xfrm>
            <a:off x="609480" y="3886200"/>
            <a:ext cx="7925040" cy="150840"/>
          </a:xfrm>
          <a:prstGeom prst="rect">
            <a:avLst/>
          </a:prstGeom>
          <a:solidFill>
            <a:srgbClr val="c0c0c0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Línea 56"/>
          <p:cNvSpPr/>
          <p:nvPr/>
        </p:nvSpPr>
        <p:spPr>
          <a:xfrm>
            <a:off x="4226040" y="1492200"/>
            <a:ext cx="0" cy="47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4308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Esquema Complejo ácido graso sintasa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0" name="Cuadro de texto 62"/>
          <p:cNvSpPr/>
          <p:nvPr/>
        </p:nvSpPr>
        <p:spPr>
          <a:xfrm>
            <a:off x="7620120" y="26668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Cuadro de texto 63"/>
          <p:cNvSpPr/>
          <p:nvPr/>
        </p:nvSpPr>
        <p:spPr>
          <a:xfrm>
            <a:off x="1066680" y="2895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Cuadro de texto 64"/>
          <p:cNvSpPr/>
          <p:nvPr/>
        </p:nvSpPr>
        <p:spPr>
          <a:xfrm>
            <a:off x="8305920" y="21337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Cuadro de texto 67"/>
          <p:cNvSpPr/>
          <p:nvPr/>
        </p:nvSpPr>
        <p:spPr>
          <a:xfrm>
            <a:off x="5334120" y="17524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no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Rectángulo 68"/>
          <p:cNvSpPr/>
          <p:nvPr/>
        </p:nvSpPr>
        <p:spPr>
          <a:xfrm>
            <a:off x="4343400" y="1447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Hidra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Rectángulo 69"/>
          <p:cNvSpPr/>
          <p:nvPr/>
        </p:nvSpPr>
        <p:spPr>
          <a:xfrm>
            <a:off x="1274760" y="16002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etil 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Cuadro de texto 70"/>
          <p:cNvSpPr/>
          <p:nvPr/>
        </p:nvSpPr>
        <p:spPr>
          <a:xfrm>
            <a:off x="685800" y="23623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etoacil sin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Rectángulo 71"/>
          <p:cNvSpPr/>
          <p:nvPr/>
        </p:nvSpPr>
        <p:spPr>
          <a:xfrm>
            <a:off x="2743200" y="16765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Malon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Cuadro de texto 72"/>
          <p:cNvSpPr/>
          <p:nvPr/>
        </p:nvSpPr>
        <p:spPr>
          <a:xfrm>
            <a:off x="7505640" y="2416320"/>
            <a:ext cx="6858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Cuadro de texto 74"/>
          <p:cNvSpPr/>
          <p:nvPr/>
        </p:nvSpPr>
        <p:spPr>
          <a:xfrm>
            <a:off x="7848720" y="21337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ioester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Cuadro de texto 109"/>
          <p:cNvSpPr/>
          <p:nvPr/>
        </p:nvSpPr>
        <p:spPr>
          <a:xfrm>
            <a:off x="6172200" y="23623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etoacil 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Cuadro de texto 111"/>
          <p:cNvSpPr/>
          <p:nvPr/>
        </p:nvSpPr>
        <p:spPr>
          <a:xfrm>
            <a:off x="990720" y="3505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Cuadro de texto 113"/>
          <p:cNvSpPr/>
          <p:nvPr/>
        </p:nvSpPr>
        <p:spPr>
          <a:xfrm>
            <a:off x="609480" y="4267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4´Fosfo  pante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Cuadro de texto 114"/>
          <p:cNvSpPr/>
          <p:nvPr/>
        </p:nvSpPr>
        <p:spPr>
          <a:xfrm>
            <a:off x="7467480" y="3505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Cuadro de texto 116"/>
          <p:cNvSpPr/>
          <p:nvPr/>
        </p:nvSpPr>
        <p:spPr>
          <a:xfrm>
            <a:off x="1066680" y="3276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Cuadro de texto 118"/>
          <p:cNvSpPr/>
          <p:nvPr/>
        </p:nvSpPr>
        <p:spPr>
          <a:xfrm>
            <a:off x="7620120" y="3276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Cuadro de texto 119"/>
          <p:cNvSpPr/>
          <p:nvPr/>
        </p:nvSpPr>
        <p:spPr>
          <a:xfrm>
            <a:off x="990720" y="41148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Cuadro de texto 120"/>
          <p:cNvSpPr/>
          <p:nvPr/>
        </p:nvSpPr>
        <p:spPr>
          <a:xfrm>
            <a:off x="91440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Cuadro de texto 121"/>
          <p:cNvSpPr/>
          <p:nvPr/>
        </p:nvSpPr>
        <p:spPr>
          <a:xfrm>
            <a:off x="2286000" y="5943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no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Cuadro de texto 122"/>
          <p:cNvSpPr/>
          <p:nvPr/>
        </p:nvSpPr>
        <p:spPr>
          <a:xfrm>
            <a:off x="1066680" y="5943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etoacil 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Cuadro de texto 125"/>
          <p:cNvSpPr/>
          <p:nvPr/>
        </p:nvSpPr>
        <p:spPr>
          <a:xfrm>
            <a:off x="7543800" y="4876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etoacil sin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ángulo 126"/>
          <p:cNvSpPr/>
          <p:nvPr/>
        </p:nvSpPr>
        <p:spPr>
          <a:xfrm>
            <a:off x="6172200" y="52578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etil 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ángulo 127"/>
          <p:cNvSpPr/>
          <p:nvPr/>
        </p:nvSpPr>
        <p:spPr>
          <a:xfrm>
            <a:off x="4648320" y="55627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Malon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Cuadro de texto 128"/>
          <p:cNvSpPr/>
          <p:nvPr/>
        </p:nvSpPr>
        <p:spPr>
          <a:xfrm>
            <a:off x="914400" y="5029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Cuadro de texto 129"/>
          <p:cNvSpPr/>
          <p:nvPr/>
        </p:nvSpPr>
        <p:spPr>
          <a:xfrm rot="17535000">
            <a:off x="-288720" y="5469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ioester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Cuadro de texto 130"/>
          <p:cNvSpPr/>
          <p:nvPr/>
        </p:nvSpPr>
        <p:spPr>
          <a:xfrm>
            <a:off x="7696080" y="41911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Rectángulo 131"/>
          <p:cNvSpPr/>
          <p:nvPr/>
        </p:nvSpPr>
        <p:spPr>
          <a:xfrm>
            <a:off x="3124080" y="5791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Hidra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Cuadro de texto 132"/>
          <p:cNvSpPr/>
          <p:nvPr/>
        </p:nvSpPr>
        <p:spPr>
          <a:xfrm>
            <a:off x="990720" y="4724280"/>
            <a:ext cx="3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Cuadro de texto 133"/>
          <p:cNvSpPr/>
          <p:nvPr/>
        </p:nvSpPr>
        <p:spPr>
          <a:xfrm>
            <a:off x="7620120" y="44197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Cis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Cuadro de texto 134"/>
          <p:cNvSpPr/>
          <p:nvPr/>
        </p:nvSpPr>
        <p:spPr>
          <a:xfrm>
            <a:off x="754380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Cuadro de texto 135"/>
          <p:cNvSpPr/>
          <p:nvPr/>
        </p:nvSpPr>
        <p:spPr>
          <a:xfrm>
            <a:off x="7772400" y="4648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Forma libre 138"/>
          <p:cNvSpPr/>
          <p:nvPr/>
        </p:nvSpPr>
        <p:spPr>
          <a:xfrm>
            <a:off x="4191120" y="5943600"/>
            <a:ext cx="380880" cy="76320"/>
          </a:xfrm>
          <a:custGeom>
            <a:avLst/>
            <a:gdLst/>
            <a:ahLst/>
            <a:rect l="l" t="t" r="r" b="b"/>
            <a:pathLst>
              <a:path w="240" h="48">
                <a:moveTo>
                  <a:pt x="0" y="0"/>
                </a:moveTo>
                <a:cubicBezTo>
                  <a:pt x="4" y="24"/>
                  <a:pt x="8" y="48"/>
                  <a:pt x="48" y="48"/>
                </a:cubicBezTo>
                <a:cubicBezTo>
                  <a:pt x="88" y="48"/>
                  <a:pt x="208" y="8"/>
                  <a:pt x="240" y="0"/>
                </a:cubicBez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Forma libre 139"/>
          <p:cNvSpPr/>
          <p:nvPr/>
        </p:nvSpPr>
        <p:spPr>
          <a:xfrm>
            <a:off x="4114800" y="1587600"/>
            <a:ext cx="304920" cy="164880"/>
          </a:xfrm>
          <a:custGeom>
            <a:avLst/>
            <a:gdLst/>
            <a:ahLst/>
            <a:rect l="l" t="t" r="r" b="b"/>
            <a:pathLst>
              <a:path w="192" h="104">
                <a:moveTo>
                  <a:pt x="0" y="104"/>
                </a:moveTo>
                <a:cubicBezTo>
                  <a:pt x="8" y="60"/>
                  <a:pt x="16" y="16"/>
                  <a:pt x="48" y="8"/>
                </a:cubicBezTo>
                <a:cubicBezTo>
                  <a:pt x="80" y="0"/>
                  <a:pt x="168" y="48"/>
                  <a:pt x="192" y="56"/>
                </a:cubicBez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618A-A253-4C5E-B8C5-0C67741315F0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09680" y="252000"/>
            <a:ext cx="844704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00"/>
                </a:solidFill>
                <a:latin typeface="Arial Narrow"/>
              </a:rPr>
              <a:t>1)Transferencia de acetato.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5" name="Text Box 11"/>
          <p:cNvSpPr/>
          <p:nvPr/>
        </p:nvSpPr>
        <p:spPr>
          <a:xfrm>
            <a:off x="395280" y="1665360"/>
            <a:ext cx="29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Text Box 14"/>
          <p:cNvSpPr/>
          <p:nvPr/>
        </p:nvSpPr>
        <p:spPr>
          <a:xfrm>
            <a:off x="324000" y="2384280"/>
            <a:ext cx="403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Una molécula de acetil-CoA ingresa y la </a:t>
            </a:r>
            <a:r>
              <a:rPr b="0" lang="es-ES" sz="2800" spc="-1" strike="noStrike">
                <a:solidFill>
                  <a:srgbClr val="ff3300"/>
                </a:solidFill>
                <a:latin typeface="Arial Narrow"/>
                <a:ea typeface="Arial"/>
              </a:rPr>
              <a:t>acetil transferasa (AT)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transfiere el resto acetilo al sitio activo de la </a:t>
            </a:r>
            <a:r>
              <a:rPr b="0" lang="es-ES" sz="2800" spc="-1" strike="noStrike">
                <a:solidFill>
                  <a:srgbClr val="ffff00"/>
                </a:solidFill>
                <a:latin typeface="Arial Narrow"/>
                <a:ea typeface="Arial"/>
              </a:rPr>
              <a:t>enzima condensante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 Narrow"/>
                <a:ea typeface="Arial"/>
              </a:rPr>
              <a:t>(K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7" name="Picture 16" descr=""/>
          <p:cNvPicPr/>
          <p:nvPr/>
        </p:nvPicPr>
        <p:blipFill>
          <a:blip r:embed="rId1"/>
          <a:stretch/>
        </p:blipFill>
        <p:spPr>
          <a:xfrm>
            <a:off x="4680000" y="981000"/>
            <a:ext cx="35449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A6E9-9077-460A-875F-D7915B8C6818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58560" y="333360"/>
            <a:ext cx="848340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Arial Narrow"/>
              </a:rPr>
              <a:t>2)Transferencia de malonilo.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0" name="Text Box 6"/>
          <p:cNvSpPr/>
          <p:nvPr/>
        </p:nvSpPr>
        <p:spPr>
          <a:xfrm>
            <a:off x="431640" y="1628640"/>
            <a:ext cx="324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El malonil-CoA formado ingresa y se une al residuo de </a:t>
            </a:r>
            <a:r>
              <a:rPr b="0" lang="es-ES" sz="2800" spc="-1" strike="noStrike">
                <a:solidFill>
                  <a:srgbClr val="00ff00"/>
                </a:solidFill>
                <a:latin typeface="Arial Narrow"/>
                <a:ea typeface="Arial"/>
              </a:rPr>
              <a:t>Fosfopanteteína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 de la </a:t>
            </a:r>
            <a:r>
              <a:rPr b="0" lang="es-ES" sz="2800" spc="-1" strike="noStrike">
                <a:solidFill>
                  <a:srgbClr val="ffff00"/>
                </a:solidFill>
                <a:latin typeface="Arial Narrow"/>
                <a:ea typeface="Arial"/>
              </a:rPr>
              <a:t>Proteína Transportadora de Acilos (ACP)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por acción de la </a:t>
            </a:r>
            <a:r>
              <a:rPr b="0" lang="es-ES" sz="2800" spc="-1" strike="noStrike">
                <a:solidFill>
                  <a:srgbClr val="ff3300"/>
                </a:solidFill>
                <a:latin typeface="Arial Narrow"/>
                <a:ea typeface="Arial"/>
              </a:rPr>
              <a:t>malonil transferasa (MT)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1" name="Picture 8" descr=""/>
          <p:cNvPicPr/>
          <p:nvPr/>
        </p:nvPicPr>
        <p:blipFill>
          <a:blip r:embed="rId1"/>
          <a:stretch/>
        </p:blipFill>
        <p:spPr>
          <a:xfrm>
            <a:off x="3738600" y="944640"/>
            <a:ext cx="470196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8483-E4F7-4275-8FAE-9BC3935D648D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-360" y="252000"/>
            <a:ext cx="891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3)Condensación de acetilo con malonilo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4" name="Text Box 6"/>
          <p:cNvSpPr/>
          <p:nvPr/>
        </p:nvSpPr>
        <p:spPr>
          <a:xfrm>
            <a:off x="468360" y="2097000"/>
            <a:ext cx="39211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El carboxilo libre del malonilo se separa como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Se produce la unión de acetilo y malonilo catalizada por la </a:t>
            </a:r>
            <a:r>
              <a:rPr b="0" lang="es-ES" sz="2400" spc="-1" strike="noStrike">
                <a:solidFill>
                  <a:srgbClr val="ff3300"/>
                </a:solidFill>
                <a:latin typeface="Arial Narrow"/>
                <a:ea typeface="Arial"/>
              </a:rPr>
              <a:t>enzima condensante (KS) </a:t>
            </a: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para formar ceto-acil A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Se libera el acetilo de la enzima condens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5" name="Picture 8" descr=""/>
          <p:cNvPicPr/>
          <p:nvPr/>
        </p:nvPicPr>
        <p:blipFill>
          <a:blip r:embed="rId1"/>
          <a:stretch/>
        </p:blipFill>
        <p:spPr>
          <a:xfrm>
            <a:off x="4716360" y="1268280"/>
            <a:ext cx="38116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72AF-BB2A-4601-9E76-CE05B9E7DAEC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ff00"/>
                </a:solidFill>
                <a:latin typeface="Arial Narrow"/>
              </a:rPr>
              <a:t>4) Primera reducción (reducción del grupo ceto)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8" name="Text Box 6"/>
          <p:cNvSpPr/>
          <p:nvPr/>
        </p:nvSpPr>
        <p:spPr>
          <a:xfrm>
            <a:off x="468360" y="2529000"/>
            <a:ext cx="24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El ceto-acil ACP formado se reduce a hidroxi-acil ACP por acción de la </a:t>
            </a:r>
            <a:r>
              <a:rPr b="1" lang="es-ES" sz="2400" spc="-1" strike="noStrike">
                <a:solidFill>
                  <a:srgbClr val="ff3300"/>
                </a:solidFill>
                <a:latin typeface="Arial Narrow"/>
                <a:ea typeface="Arial"/>
              </a:rPr>
              <a:t>ceto-acil reductasa (KR)</a:t>
            </a: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9" name="Picture 8" descr=""/>
          <p:cNvPicPr/>
          <p:nvPr/>
        </p:nvPicPr>
        <p:blipFill>
          <a:blip r:embed="rId1"/>
          <a:stretch/>
        </p:blipFill>
        <p:spPr>
          <a:xfrm>
            <a:off x="2879640" y="1736640"/>
            <a:ext cx="62643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096240" cy="1143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 Narrow"/>
              </a:rPr>
              <a:t>Funciones de los lípid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425080" cy="4465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mponentes de membra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Fuente de reserva energ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Reguladores Biológ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igmentos (retinol, carot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factores (vitamina 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etergentes (ácidos biliar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Transportadores (dolico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Hormonas (derivados de la vitamina D, hormonas sexua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Mensajeros celulares (eicosanoides, derivados de fosfatidil inosito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ncladores de proteí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506C-895D-4903-84C4-007D7DB421D0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942920" y="361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5)Deshidratación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503280" y="202392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7"/>
          <p:cNvSpPr/>
          <p:nvPr/>
        </p:nvSpPr>
        <p:spPr>
          <a:xfrm>
            <a:off x="216000" y="2492280"/>
            <a:ext cx="28796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Se pierde una molécula de agua, reacción catalizada por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1" lang="es-ES" sz="2400" spc="-1" strike="noStrike">
                <a:solidFill>
                  <a:srgbClr val="ff3300"/>
                </a:solidFill>
                <a:latin typeface="Arial Narrow"/>
                <a:ea typeface="Arial"/>
              </a:rPr>
              <a:t>hidroxi acil deshidratasa (H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4" name="Picture 9" descr=""/>
          <p:cNvPicPr/>
          <p:nvPr/>
        </p:nvPicPr>
        <p:blipFill>
          <a:blip r:embed="rId1"/>
          <a:stretch/>
        </p:blipFill>
        <p:spPr>
          <a:xfrm>
            <a:off x="2808360" y="1704960"/>
            <a:ext cx="61563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0E22-5A6F-4125-8A4A-DA0FAA53212C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54080" y="-360"/>
            <a:ext cx="89899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Arial Narrow"/>
              </a:rPr>
              <a:t>6)Segunda reducción</a:t>
            </a:r>
            <a:br>
              <a:rPr sz="3600"/>
            </a:br>
            <a:r>
              <a:rPr b="1" lang="es-ES" sz="2400" spc="-1" strike="noStrike">
                <a:solidFill>
                  <a:srgbClr val="00ff00"/>
                </a:solidFill>
                <a:latin typeface="Arial Narrow"/>
              </a:rPr>
              <a:t>(Saturación del enlace C-C)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7" name="Text Box 6"/>
          <p:cNvSpPr/>
          <p:nvPr/>
        </p:nvSpPr>
        <p:spPr>
          <a:xfrm>
            <a:off x="576360" y="3033720"/>
            <a:ext cx="3887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compuesto insaturado es hidrogenado por acción de 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enoil reductasa (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8" name="Picture 8" descr=""/>
          <p:cNvPicPr/>
          <p:nvPr/>
        </p:nvPicPr>
        <p:blipFill>
          <a:blip r:embed="rId1"/>
          <a:stretch/>
        </p:blipFill>
        <p:spPr>
          <a:xfrm>
            <a:off x="5076720" y="762120"/>
            <a:ext cx="32482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17C8-A34F-40AE-BD20-213022AC7CCE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095640" y="225000"/>
            <a:ext cx="577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00"/>
                </a:solidFill>
                <a:latin typeface="Arial Narrow"/>
              </a:rPr>
              <a:t>Transloca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1" name="Text Box 7"/>
          <p:cNvSpPr/>
          <p:nvPr/>
        </p:nvSpPr>
        <p:spPr>
          <a:xfrm>
            <a:off x="1440" y="189000"/>
            <a:ext cx="3418200" cy="63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 Narrow"/>
                <a:ea typeface="Arial"/>
              </a:rPr>
              <a:t>La cadena en elongación unida al grupo fosfopanteteína de la ACP es translocada al residuo de cisteína de la enzima condensante (K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El grupo fosfopanteteína queda libre para la unión a malonilo comenzando un nuevo cic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 Narrow"/>
                <a:ea typeface="Arial"/>
              </a:rPr>
              <a:t>El ciclo se repite hasta llegar a AG de 16 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ffcc"/>
                </a:solidFill>
                <a:latin typeface="Arial Narrow"/>
                <a:ea typeface="Arial"/>
              </a:rPr>
              <a:t>Los H necesarios para las reducciones provienen de </a:t>
            </a:r>
            <a:r>
              <a:rPr b="1" lang="es-ES" sz="2000" spc="-1" strike="noStrike" u="sng">
                <a:solidFill>
                  <a:srgbClr val="99ffcc"/>
                </a:solidFill>
                <a:uFillTx/>
                <a:latin typeface="Arial Narrow"/>
                <a:ea typeface="Arial"/>
              </a:rPr>
              <a:t>NADPH que se obtiene en la vía de las pentosas y  en menor cantidad por la enzima málica lanzadera de citra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ffcc"/>
                </a:solidFill>
                <a:latin typeface="Arial Narrow"/>
                <a:ea typeface="Arial"/>
              </a:rPr>
              <a:t>(transporte de acetilos</a:t>
            </a:r>
            <a:r>
              <a:rPr b="1" lang="es-E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2" name="Picture 9" descr=""/>
          <p:cNvPicPr/>
          <p:nvPr/>
        </p:nvPicPr>
        <p:blipFill>
          <a:blip r:embed="rId1"/>
          <a:stretch/>
        </p:blipFill>
        <p:spPr>
          <a:xfrm>
            <a:off x="3348000" y="1665360"/>
            <a:ext cx="557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028A-7DA9-43C0-B4A3-2B1A397260A8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90080" y="361440"/>
            <a:ext cx="8185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00ff00"/>
                </a:solidFill>
                <a:uFillTx/>
                <a:latin typeface="Arial Narrow"/>
              </a:rPr>
              <a:t>RESUMEN</a:t>
            </a: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: </a:t>
            </a:r>
            <a:br>
              <a:rPr sz="4000"/>
            </a:b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Pasos de la biosíntesis de Ac. Grasos.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95" name="Picture 6" descr=""/>
          <p:cNvPicPr/>
          <p:nvPr/>
        </p:nvPicPr>
        <p:blipFill>
          <a:blip r:embed="rId1"/>
          <a:stretch/>
        </p:blipFill>
        <p:spPr>
          <a:xfrm>
            <a:off x="539640" y="1765440"/>
            <a:ext cx="8375760" cy="4611600"/>
          </a:xfrm>
          <a:prstGeom prst="rect">
            <a:avLst/>
          </a:prstGeom>
          <a:ln w="0">
            <a:noFill/>
          </a:ln>
        </p:spPr>
      </p:pic>
      <p:sp>
        <p:nvSpPr>
          <p:cNvPr id="996" name="1 CuadroTexto"/>
          <p:cNvSpPr/>
          <p:nvPr/>
        </p:nvSpPr>
        <p:spPr>
          <a:xfrm>
            <a:off x="539640" y="5408640"/>
            <a:ext cx="54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7 ciclos de condensación y reducción producen el palmitato saturado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,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Actúa la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oesterasa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y libera el 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Elipse 19"/>
          <p:cNvSpPr/>
          <p:nvPr/>
        </p:nvSpPr>
        <p:spPr>
          <a:xfrm>
            <a:off x="3124080" y="2743200"/>
            <a:ext cx="1067040" cy="12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Arial Narrow"/>
              </a:rPr>
              <a:t>Balance de la Biosíntesis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9" name="Cuadro de texto 15"/>
          <p:cNvSpPr/>
          <p:nvPr/>
        </p:nvSpPr>
        <p:spPr>
          <a:xfrm>
            <a:off x="762120" y="32004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8 Acetil-CoA  +  7 ATP  +  14 NADPH   +  14  H</a:t>
            </a:r>
            <a:r>
              <a:rPr b="1" lang="es-E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Cuadro de texto 16"/>
          <p:cNvSpPr/>
          <p:nvPr/>
        </p:nvSpPr>
        <p:spPr>
          <a:xfrm>
            <a:off x="152280" y="4495680"/>
            <a:ext cx="883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lmitato +8 CoA-SH +  7 ADP + 7 Pi +  14 NADP</a:t>
            </a:r>
            <a:r>
              <a:rPr b="1" lang="es-E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  +  6  H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Línea 20"/>
          <p:cNvSpPr/>
          <p:nvPr/>
        </p:nvSpPr>
        <p:spPr>
          <a:xfrm flipV="1">
            <a:off x="4343400" y="2438280"/>
            <a:ext cx="1371600" cy="457200"/>
          </a:xfrm>
          <a:prstGeom prst="line">
            <a:avLst/>
          </a:prstGeom>
          <a:ln w="22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Elipse 21"/>
          <p:cNvSpPr/>
          <p:nvPr/>
        </p:nvSpPr>
        <p:spPr>
          <a:xfrm>
            <a:off x="5638680" y="1219320"/>
            <a:ext cx="3110040" cy="1752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Biosíntesis de malon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Línea 22"/>
          <p:cNvSpPr/>
          <p:nvPr/>
        </p:nvSpPr>
        <p:spPr>
          <a:xfrm>
            <a:off x="4572000" y="37893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1 CuadroTexto"/>
          <p:cNvSpPr/>
          <p:nvPr/>
        </p:nvSpPr>
        <p:spPr>
          <a:xfrm>
            <a:off x="6063840" y="153180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Lanzadera de citr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Cuadro de texto 4"/>
          <p:cNvSpPr/>
          <p:nvPr/>
        </p:nvSpPr>
        <p:spPr>
          <a:xfrm>
            <a:off x="2556000" y="2060640"/>
            <a:ext cx="3744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losté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Transcripción génic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Rectángulo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Arial"/>
                <a:ea typeface="Arial"/>
              </a:rPr>
              <a:t>REGULACION DE LA BIOSINTESIS DE ACIDOS GRAS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Cuadro de texto 6"/>
          <p:cNvSpPr/>
          <p:nvPr/>
        </p:nvSpPr>
        <p:spPr>
          <a:xfrm>
            <a:off x="324000" y="3357720"/>
            <a:ext cx="2232000" cy="1169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ff"/>
                </a:solidFill>
                <a:latin typeface="Arial"/>
                <a:ea typeface="Arial"/>
              </a:rPr>
              <a:t>Acetil-Co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ff"/>
                </a:solidFill>
                <a:latin typeface="Arial"/>
                <a:ea typeface="Arial"/>
              </a:rPr>
              <a:t>carboxil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Autoforma 7"/>
          <p:cNvSpPr/>
          <p:nvPr/>
        </p:nvSpPr>
        <p:spPr>
          <a:xfrm>
            <a:off x="4429080" y="1700280"/>
            <a:ext cx="358920" cy="1657440"/>
          </a:xfrm>
          <a:custGeom>
            <a:avLst/>
            <a:gdLst>
              <a:gd name="textAreaLeft" fmla="*/ 229320 w 358920"/>
              <a:gd name="textAreaRight" fmla="*/ 359280 w 35892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Autoforma 8"/>
          <p:cNvSpPr/>
          <p:nvPr/>
        </p:nvSpPr>
        <p:spPr>
          <a:xfrm>
            <a:off x="4284720" y="1484280"/>
            <a:ext cx="431640" cy="1727280"/>
          </a:xfrm>
          <a:custGeom>
            <a:avLst/>
            <a:gdLst>
              <a:gd name="textAreaLeft" fmla="*/ 275760 w 431640"/>
              <a:gd name="textAreaRight" fmla="*/ 432000 w 43164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Elipse 9"/>
          <p:cNvSpPr/>
          <p:nvPr/>
        </p:nvSpPr>
        <p:spPr>
          <a:xfrm>
            <a:off x="4788000" y="17002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Elipse 10"/>
          <p:cNvSpPr/>
          <p:nvPr/>
        </p:nvSpPr>
        <p:spPr>
          <a:xfrm>
            <a:off x="4859280" y="2637000"/>
            <a:ext cx="504720" cy="43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Autoforma 11"/>
          <p:cNvSpPr/>
          <p:nvPr/>
        </p:nvSpPr>
        <p:spPr>
          <a:xfrm>
            <a:off x="4356000" y="3573360"/>
            <a:ext cx="432000" cy="1727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Elipse 12"/>
          <p:cNvSpPr/>
          <p:nvPr/>
        </p:nvSpPr>
        <p:spPr>
          <a:xfrm>
            <a:off x="4859280" y="378936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Elipse 13"/>
          <p:cNvSpPr/>
          <p:nvPr/>
        </p:nvSpPr>
        <p:spPr>
          <a:xfrm>
            <a:off x="4930920" y="47260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Cuadro de texto 14"/>
          <p:cNvSpPr/>
          <p:nvPr/>
        </p:nvSpPr>
        <p:spPr>
          <a:xfrm>
            <a:off x="5435640" y="1773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itr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Cuadro de texto 15"/>
          <p:cNvSpPr/>
          <p:nvPr/>
        </p:nvSpPr>
        <p:spPr>
          <a:xfrm>
            <a:off x="5580000" y="2708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almit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Cuadro de texto 16"/>
          <p:cNvSpPr/>
          <p:nvPr/>
        </p:nvSpPr>
        <p:spPr>
          <a:xfrm>
            <a:off x="5580000" y="38606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nsu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Cuadro de texto 17"/>
          <p:cNvSpPr/>
          <p:nvPr/>
        </p:nvSpPr>
        <p:spPr>
          <a:xfrm>
            <a:off x="5580000" y="486900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Glucagón, Adrena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Cuadro de texto 18"/>
          <p:cNvSpPr/>
          <p:nvPr/>
        </p:nvSpPr>
        <p:spPr>
          <a:xfrm>
            <a:off x="6732720" y="5877000"/>
            <a:ext cx="208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.G. poliinsatur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Elipse 19"/>
          <p:cNvSpPr/>
          <p:nvPr/>
        </p:nvSpPr>
        <p:spPr>
          <a:xfrm>
            <a:off x="6083280" y="59482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BEC1-C374-4FCC-A6B7-8434365FF3D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2 Rectángulo"/>
          <p:cNvSpPr/>
          <p:nvPr/>
        </p:nvSpPr>
        <p:spPr>
          <a:xfrm>
            <a:off x="179280" y="549360"/>
            <a:ext cx="8713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La regulación hormonal produce un </a:t>
            </a:r>
            <a:r>
              <a:rPr b="0" lang="es-AR" sz="2000" spc="-1" strike="noStrike" u="sng">
                <a:solidFill>
                  <a:srgbClr val="ffc000"/>
                </a:solidFill>
                <a:uFillTx/>
                <a:latin typeface="Arial Rounded MT Bold"/>
              </a:rPr>
              <a:t>efecto inmediato</a:t>
            </a: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, de corto tiempo, a través de un mecanismo de fosforilación ó desfosforilación de la enzim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La dieta actúa a nivel de la síntesis de la proteína enzimática por lo que el </a:t>
            </a:r>
            <a:r>
              <a:rPr b="0" lang="es-AR" sz="2000" spc="-1" strike="noStrike" u="sng">
                <a:solidFill>
                  <a:srgbClr val="ffc000"/>
                </a:solidFill>
                <a:uFillTx/>
                <a:latin typeface="Arial Rounded MT Bold"/>
              </a:rPr>
              <a:t>efecto es tardío ó mediato</a:t>
            </a: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Así por ejempl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1a1a"/>
                </a:solidFill>
                <a:latin typeface="Arial Rounded MT Bold"/>
              </a:rPr>
              <a:t>a)  una dieta rica en hidratos de carbono y/o proteínas, supera las necesidades energéticas de la célula, en consecuencia el acetil CoA que se produce en la degradación de dichos compuestos se utiliza para la síntesis de AG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b) una dieta pobre en grasas no aporta la cantidad de lípidos suficientes para las distintas funciones celulares, en consecuencia se favorece la síntesis de ácidos gras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ángulo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Arial"/>
                <a:ea typeface="Arial"/>
              </a:rPr>
              <a:t>ESQUEMA DE LA REGULACION DE LA BIOSINT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Cuadro de texto 5"/>
          <p:cNvSpPr/>
          <p:nvPr/>
        </p:nvSpPr>
        <p:spPr>
          <a:xfrm>
            <a:off x="3421080" y="1700280"/>
            <a:ext cx="107964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itr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Cuadro de texto 6"/>
          <p:cNvSpPr/>
          <p:nvPr/>
        </p:nvSpPr>
        <p:spPr>
          <a:xfrm>
            <a:off x="3276720" y="316692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Cuadro de texto 7"/>
          <p:cNvSpPr/>
          <p:nvPr/>
        </p:nvSpPr>
        <p:spPr>
          <a:xfrm>
            <a:off x="3295800" y="443232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alon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Cuadro de texto 8"/>
          <p:cNvSpPr/>
          <p:nvPr/>
        </p:nvSpPr>
        <p:spPr>
          <a:xfrm>
            <a:off x="3276720" y="5902200"/>
            <a:ext cx="20160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almito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Línea 9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Línea 10"/>
          <p:cNvSpPr/>
          <p:nvPr/>
        </p:nvSpPr>
        <p:spPr>
          <a:xfrm>
            <a:off x="3995640" y="3645000"/>
            <a:ext cx="0" cy="720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Línea 11"/>
          <p:cNvSpPr/>
          <p:nvPr/>
        </p:nvSpPr>
        <p:spPr>
          <a:xfrm>
            <a:off x="4067280" y="5084640"/>
            <a:ext cx="0" cy="179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Cuadro de texto 12"/>
          <p:cNvSpPr/>
          <p:nvPr/>
        </p:nvSpPr>
        <p:spPr>
          <a:xfrm>
            <a:off x="4067280" y="2349360"/>
            <a:ext cx="16570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Citrato liasa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Cuadro de texto 13"/>
          <p:cNvSpPr/>
          <p:nvPr/>
        </p:nvSpPr>
        <p:spPr>
          <a:xfrm>
            <a:off x="4140360" y="3789360"/>
            <a:ext cx="28796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Acetil-CoA carboxilasa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Línea 14"/>
          <p:cNvSpPr/>
          <p:nvPr/>
        </p:nvSpPr>
        <p:spPr>
          <a:xfrm>
            <a:off x="4067280" y="5300640"/>
            <a:ext cx="0" cy="179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Línea 15"/>
          <p:cNvSpPr/>
          <p:nvPr/>
        </p:nvSpPr>
        <p:spPr>
          <a:xfrm>
            <a:off x="4067280" y="5554800"/>
            <a:ext cx="0" cy="179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Línea 16"/>
          <p:cNvSpPr/>
          <p:nvPr/>
        </p:nvSpPr>
        <p:spPr>
          <a:xfrm>
            <a:off x="6443640" y="4653000"/>
            <a:ext cx="0" cy="14400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Línea 17"/>
          <p:cNvSpPr/>
          <p:nvPr/>
        </p:nvSpPr>
        <p:spPr>
          <a:xfrm>
            <a:off x="5508720" y="6093000"/>
            <a:ext cx="93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Elipse 18"/>
          <p:cNvSpPr/>
          <p:nvPr/>
        </p:nvSpPr>
        <p:spPr>
          <a:xfrm>
            <a:off x="6156360" y="414972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Cuadro de texto 19"/>
          <p:cNvSpPr/>
          <p:nvPr/>
        </p:nvSpPr>
        <p:spPr>
          <a:xfrm>
            <a:off x="7415280" y="393372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Glucagón, Adrena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Línea 20"/>
          <p:cNvSpPr/>
          <p:nvPr/>
        </p:nvSpPr>
        <p:spPr>
          <a:xfrm flipH="1">
            <a:off x="6804000" y="4365720"/>
            <a:ext cx="43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Línea 21"/>
          <p:cNvSpPr/>
          <p:nvPr/>
        </p:nvSpPr>
        <p:spPr>
          <a:xfrm>
            <a:off x="5292720" y="1844640"/>
            <a:ext cx="0" cy="4320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Línea 22"/>
          <p:cNvSpPr/>
          <p:nvPr/>
        </p:nvSpPr>
        <p:spPr>
          <a:xfrm>
            <a:off x="4643280" y="1844640"/>
            <a:ext cx="64944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Elipse 23"/>
          <p:cNvSpPr/>
          <p:nvPr/>
        </p:nvSpPr>
        <p:spPr>
          <a:xfrm>
            <a:off x="5435640" y="17002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Línea 24"/>
          <p:cNvSpPr/>
          <p:nvPr/>
        </p:nvSpPr>
        <p:spPr>
          <a:xfrm>
            <a:off x="2700360" y="3933720"/>
            <a:ext cx="122400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Línea 25"/>
          <p:cNvSpPr/>
          <p:nvPr/>
        </p:nvSpPr>
        <p:spPr>
          <a:xfrm flipH="1">
            <a:off x="2700360" y="1844640"/>
            <a:ext cx="50328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Línea 26"/>
          <p:cNvSpPr/>
          <p:nvPr/>
        </p:nvSpPr>
        <p:spPr>
          <a:xfrm>
            <a:off x="2700360" y="1844640"/>
            <a:ext cx="0" cy="208908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Elipse 27"/>
          <p:cNvSpPr/>
          <p:nvPr/>
        </p:nvSpPr>
        <p:spPr>
          <a:xfrm>
            <a:off x="2124000" y="2708280"/>
            <a:ext cx="50508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Cuadro de texto 28"/>
          <p:cNvSpPr/>
          <p:nvPr/>
        </p:nvSpPr>
        <p:spPr>
          <a:xfrm>
            <a:off x="6300720" y="1700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nsu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Línea 29"/>
          <p:cNvSpPr/>
          <p:nvPr/>
        </p:nvSpPr>
        <p:spPr>
          <a:xfrm flipH="1">
            <a:off x="2123640" y="4653000"/>
            <a:ext cx="1079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Rectángulo 30"/>
          <p:cNvSpPr/>
          <p:nvPr/>
        </p:nvSpPr>
        <p:spPr>
          <a:xfrm>
            <a:off x="0" y="4730760"/>
            <a:ext cx="21099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Carnitin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cil transferasa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(Acil. CoA al interior de 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itocondria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Elipse 31"/>
          <p:cNvSpPr/>
          <p:nvPr/>
        </p:nvSpPr>
        <p:spPr>
          <a:xfrm>
            <a:off x="2484360" y="4869000"/>
            <a:ext cx="505080" cy="43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Línea 32"/>
          <p:cNvSpPr/>
          <p:nvPr/>
        </p:nvSpPr>
        <p:spPr>
          <a:xfrm>
            <a:off x="5940360" y="220500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6BD7-83F1-4BC4-AFA8-FDC750E7DDF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3" name="Picture 2" descr=""/>
          <p:cNvPicPr/>
          <p:nvPr/>
        </p:nvPicPr>
        <p:blipFill>
          <a:blip r:embed="rId1"/>
          <a:stretch/>
        </p:blipFill>
        <p:spPr>
          <a:xfrm>
            <a:off x="347760" y="260280"/>
            <a:ext cx="85453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D198-83E5-42F7-BB44-D69C4060F0C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5" name="Picture 2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136000" cy="6102360"/>
          </a:xfrm>
          <a:prstGeom prst="rect">
            <a:avLst/>
          </a:prstGeom>
          <a:ln w="0">
            <a:noFill/>
          </a:ln>
        </p:spPr>
      </p:pic>
      <p:sp>
        <p:nvSpPr>
          <p:cNvPr id="1056" name="3 Conector recto"/>
          <p:cNvSpPr/>
          <p:nvPr/>
        </p:nvSpPr>
        <p:spPr>
          <a:xfrm>
            <a:off x="3276720" y="2205000"/>
            <a:ext cx="7905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4 CuadroTexto"/>
          <p:cNvSpPr/>
          <p:nvPr/>
        </p:nvSpPr>
        <p:spPr>
          <a:xfrm>
            <a:off x="6165720" y="423072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ff3300"/>
                </a:solidFill>
                <a:latin typeface="Arial"/>
                <a:ea typeface="Arial"/>
              </a:rPr>
              <a:t>deshidra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993080" cy="1152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Narrow"/>
              </a:rPr>
              <a:t>METABOLISMO DE LIPIDOS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280360" cy="446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Biosíntesis de ácidos grasos satura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Complejo multienzimático: Acido graso sinta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gulación horm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querimientos energét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15F7-6DE4-4648-BC20-442D0619C99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9" name="Picture 2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7848360" cy="5886720"/>
          </a:xfrm>
          <a:prstGeom prst="rect">
            <a:avLst/>
          </a:prstGeom>
          <a:ln w="0">
            <a:noFill/>
          </a:ln>
        </p:spPr>
      </p:pic>
      <p:sp>
        <p:nvSpPr>
          <p:cNvPr id="1060" name="2 CuadroTexto"/>
          <p:cNvSpPr/>
          <p:nvPr/>
        </p:nvSpPr>
        <p:spPr>
          <a:xfrm>
            <a:off x="7815960" y="3789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R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C770-FFDF-461E-8D06-D0CF0424ED1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2" name="Picture 3" descr=""/>
          <p:cNvPicPr/>
          <p:nvPr/>
        </p:nvPicPr>
        <p:blipFill>
          <a:blip r:embed="rId1"/>
          <a:stretch/>
        </p:blipFill>
        <p:spPr>
          <a:xfrm>
            <a:off x="1403280" y="84240"/>
            <a:ext cx="640872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BA91-6CBD-4D94-B065-5112C5616E4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2 Rectángulo"/>
          <p:cNvSpPr/>
          <p:nvPr/>
        </p:nvSpPr>
        <p:spPr>
          <a:xfrm>
            <a:off x="108000" y="122400"/>
            <a:ext cx="871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vegetales tienen las enzimas necesarias para producir insaturaciones desde la posición 9 del ácido graso hacia el carbono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metilo terminal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ejemplo, a partir del ácido oleico pueden sintetizar los ácidos: linoleico (18:2, 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.12) y linolénico (18:3,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9,12,15)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mamíferos no pueden sintetizarlos y por ello se consideran a los mismos,  ácidos grasos esenciales debiendo ser provistos por la diet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l ácido araquidónico (20:4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, 8, 11, 14) es parcialmente indispensable ya que el organismo puede sintetizarlo si dispone de ácido linoleic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 animales la nueva doble unión se introduce entre la ya existente, en la porción de cadena proximal  al grupo carboxi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AF97-0825-401F-B559-8BA0059EF82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2 CuadroTexto"/>
          <p:cNvSpPr/>
          <p:nvPr/>
        </p:nvSpPr>
        <p:spPr>
          <a:xfrm>
            <a:off x="179280" y="0"/>
            <a:ext cx="896472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NCIONES BIOLOGICAS DE  AG POLIINSATUR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N AG ESCEN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GRAN LÍPIDOS ESTRUCTURALES EN LAS CÉLULAS 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MEMBRA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N PRECURSORES DE PROSTAGLANDINAS, TROMBOXANOS Y LEUCOTRIE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TICIPAN EN LA CONSTITUCIÓN DE LOS ÉSTERES DE COLESTEROL EN PLASMA SANGUÍN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 GENERAN ISÓMEROS TRANS EN EL PROCESO DE HIDROGENACIÓN DE ACEITES NATURALES 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L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3 Flecha arriba"/>
          <p:cNvSpPr/>
          <p:nvPr/>
        </p:nvSpPr>
        <p:spPr>
          <a:xfrm>
            <a:off x="7454880" y="5805360"/>
            <a:ext cx="285840" cy="574920"/>
          </a:xfrm>
          <a:prstGeom prst="upArrow">
            <a:avLst>
              <a:gd name="adj1" fmla="val 50000"/>
              <a:gd name="adj2" fmla="val 49818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9276-78D7-4303-9789-E6719671E9E2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0" y="174600"/>
            <a:ext cx="9144000" cy="667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uando la ingesta supera las necesidades energéticas, el exceso se almacena como reserva en forma de gra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Los restos de acetil-CoA provenientes de la </a:t>
            </a:r>
            <a:r>
              <a:rPr b="1" lang="el-GR" sz="2400" spc="-1" strike="noStrike">
                <a:solidFill>
                  <a:srgbClr val="ffff00"/>
                </a:solidFill>
                <a:latin typeface="Arial"/>
                <a:ea typeface="Arial"/>
              </a:rPr>
              <a:t>β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-oxidación y de la degradación de glucosa o de las cadenas carbonadas de algunos aac, pueden utilizarse para sintetizar nuevos A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tos se incorporan al glicerol para ser almacenados como grasa de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La síntesis de AG de hasta 16 C ocurre en el citoplasma y se conoce como SINTESIS DE NO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La elongación de AG se lleva a cabo en las membranas del REL y la de los AG preexistentes se realiza en las mitocondr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Características generales de la Biosíntesis de ácidos grasos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7" name="Cuadro de texto 3"/>
          <p:cNvSpPr/>
          <p:nvPr/>
        </p:nvSpPr>
        <p:spPr>
          <a:xfrm>
            <a:off x="407880" y="2671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La biosíntesis de AG (lipogénesis)  tiene lugar en el CITOSOL, en plantas en los CLOROPLA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Cuadro de texto 4"/>
          <p:cNvSpPr/>
          <p:nvPr/>
        </p:nvSpPr>
        <p:spPr>
          <a:xfrm>
            <a:off x="468360" y="368316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 un proceso endergónico: Utiliza  A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Cuadro de texto 5"/>
          <p:cNvSpPr/>
          <p:nvPr/>
        </p:nvSpPr>
        <p:spPr>
          <a:xfrm>
            <a:off x="4191120" y="32767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Cuadro de texto 6"/>
          <p:cNvSpPr/>
          <p:nvPr/>
        </p:nvSpPr>
        <p:spPr>
          <a:xfrm>
            <a:off x="496800" y="454644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Consume equivalentes de reducción : NAD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Cuadro de texto 7"/>
          <p:cNvSpPr/>
          <p:nvPr/>
        </p:nvSpPr>
        <p:spPr>
          <a:xfrm>
            <a:off x="407880" y="55306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 activa cuando el aporte energético es superior a las necesidades de las célu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Cuadro de texto 8"/>
          <p:cNvSpPr/>
          <p:nvPr/>
        </p:nvSpPr>
        <p:spPr>
          <a:xfrm>
            <a:off x="395280" y="177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 muy activa en hígado, tejido adiposo, glándula mam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24720" cy="63356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os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AG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 sintetizan en citosol a partir de acetil-CoA, por adición sucesiva de estos fragmentos de 2 carbonos al extremo carboxilo de la cadena en creci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l Acetil-CoA que se produce en mitocondria debe estar disponible en citos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 membrana mitocondrial interna es impermeable a acetil-Co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l citrato es el compuesto que permite disponer de Acetil-CoA en citos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7 Rectángulo"/>
          <p:cNvSpPr/>
          <p:nvPr/>
        </p:nvSpPr>
        <p:spPr>
          <a:xfrm>
            <a:off x="6093000" y="3179880"/>
            <a:ext cx="792000" cy="285480"/>
          </a:xfrm>
          <a:prstGeom prst="rect">
            <a:avLst/>
          </a:prstGeom>
          <a:solidFill>
            <a:srgbClr val="777777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6 Rectángulo"/>
          <p:cNvSpPr/>
          <p:nvPr/>
        </p:nvSpPr>
        <p:spPr>
          <a:xfrm>
            <a:off x="6156360" y="3073320"/>
            <a:ext cx="792000" cy="284400"/>
          </a:xfrm>
          <a:prstGeom prst="rect">
            <a:avLst/>
          </a:prstGeom>
          <a:solidFill>
            <a:srgbClr val="777777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6" name="Imagen 4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273800" cy="5883120"/>
          </a:xfrm>
          <a:prstGeom prst="rect">
            <a:avLst/>
          </a:prstGeom>
          <a:ln w="9360">
            <a:solidFill>
              <a:srgbClr val="ff1a1a"/>
            </a:solidFill>
            <a:miter/>
          </a:ln>
        </p:spPr>
      </p:pic>
      <p:sp>
        <p:nvSpPr>
          <p:cNvPr id="817" name="Cuadro de texto 6"/>
          <p:cNvSpPr/>
          <p:nvPr/>
        </p:nvSpPr>
        <p:spPr>
          <a:xfrm>
            <a:off x="3348000" y="2492280"/>
            <a:ext cx="90000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Citrato sin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Cuadro de texto 7"/>
          <p:cNvSpPr/>
          <p:nvPr/>
        </p:nvSpPr>
        <p:spPr>
          <a:xfrm>
            <a:off x="5508720" y="2492280"/>
            <a:ext cx="86364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Citrato li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1 Estrella de 5 puntas"/>
          <p:cNvSpPr/>
          <p:nvPr/>
        </p:nvSpPr>
        <p:spPr>
          <a:xfrm>
            <a:off x="5796000" y="4491000"/>
            <a:ext cx="863640" cy="647640"/>
          </a:xfrm>
          <a:custGeom>
            <a:avLst/>
            <a:gdLst/>
            <a:ahLst/>
            <a:rect l="l" t="t" r="r" b="b"/>
            <a:pathLst>
              <a:path w="684076" h="648072">
                <a:moveTo>
                  <a:pt x="1" y="247541"/>
                </a:moveTo>
                <a:lnTo>
                  <a:pt x="252730" y="235799"/>
                </a:lnTo>
                <a:lnTo>
                  <a:pt x="342038" y="0"/>
                </a:lnTo>
                <a:lnTo>
                  <a:pt x="431346" y="235799"/>
                </a:lnTo>
                <a:lnTo>
                  <a:pt x="684075" y="247541"/>
                </a:lnTo>
                <a:lnTo>
                  <a:pt x="486542" y="405015"/>
                </a:lnTo>
                <a:lnTo>
                  <a:pt x="553429" y="648070"/>
                </a:lnTo>
                <a:lnTo>
                  <a:pt x="342038" y="509596"/>
                </a:lnTo>
                <a:lnTo>
                  <a:pt x="130647" y="648070"/>
                </a:lnTo>
                <a:lnTo>
                  <a:pt x="197534" y="405015"/>
                </a:lnTo>
                <a:lnTo>
                  <a:pt x="1" y="247541"/>
                </a:lnTo>
                <a:close/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1 Rectángulo"/>
          <p:cNvSpPr/>
          <p:nvPr/>
        </p:nvSpPr>
        <p:spPr>
          <a:xfrm>
            <a:off x="324000" y="11592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  <a:ea typeface="Arial"/>
              </a:rPr>
              <a:t>SALIDA DE ACETILOS DE LA MITOCONDRIA AL CITOS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  <a:ea typeface="Arial"/>
              </a:rPr>
              <a:t>LANZADERA DE CITR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1" name="3 Conector recto de flecha"/>
          <p:cNvCxnSpPr/>
          <p:nvPr/>
        </p:nvCxnSpPr>
        <p:spPr>
          <a:xfrm flipH="1" flipV="1">
            <a:off x="6318000" y="5589000"/>
            <a:ext cx="342000" cy="43236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cxnSp>
        <p:nvCxnSpPr>
          <p:cNvPr id="822" name="5 Conector recto de flecha"/>
          <p:cNvCxnSpPr/>
          <p:nvPr/>
        </p:nvCxnSpPr>
        <p:spPr>
          <a:xfrm flipH="1" flipV="1">
            <a:off x="7092720" y="5229360"/>
            <a:ext cx="72000" cy="57636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823" name="1 CuadroTexto"/>
          <p:cNvSpPr/>
          <p:nvPr/>
        </p:nvSpPr>
        <p:spPr>
          <a:xfrm>
            <a:off x="2198520" y="4699080"/>
            <a:ext cx="5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Biotin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3 CuadroTexto"/>
          <p:cNvSpPr/>
          <p:nvPr/>
        </p:nvSpPr>
        <p:spPr>
          <a:xfrm>
            <a:off x="3448800" y="180324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5" name="5 Conector recto de flecha"/>
          <p:cNvCxnSpPr/>
          <p:nvPr/>
        </p:nvCxnSpPr>
        <p:spPr>
          <a:xfrm flipV="1">
            <a:off x="3924000" y="1802880"/>
            <a:ext cx="108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 Narrow"/>
              </a:rPr>
              <a:t>Relación entre el Metabolismo de los H. de C. y la Biosíntesis de Ácidos Grasos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27" name="Imagen 4" descr="fi18p22"/>
          <p:cNvPicPr/>
          <p:nvPr/>
        </p:nvPicPr>
        <p:blipFill>
          <a:blip r:embed="rId1"/>
          <a:stretch/>
        </p:blipFill>
        <p:spPr>
          <a:xfrm>
            <a:off x="1295280" y="1447920"/>
            <a:ext cx="6912000" cy="5016240"/>
          </a:xfrm>
          <a:prstGeom prst="rect">
            <a:avLst/>
          </a:prstGeom>
          <a:ln w="0">
            <a:noFill/>
          </a:ln>
        </p:spPr>
      </p:pic>
      <p:sp>
        <p:nvSpPr>
          <p:cNvPr id="828" name="Cuadro de texto 7"/>
          <p:cNvSpPr/>
          <p:nvPr/>
        </p:nvSpPr>
        <p:spPr>
          <a:xfrm>
            <a:off x="990720" y="2362320"/>
            <a:ext cx="129528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ITO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Cuadro de texto 8"/>
          <p:cNvSpPr/>
          <p:nvPr/>
        </p:nvSpPr>
        <p:spPr>
          <a:xfrm>
            <a:off x="1752480" y="1752480"/>
            <a:ext cx="160020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GLICOLI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Cuadro de texto 9"/>
          <p:cNvSpPr/>
          <p:nvPr/>
        </p:nvSpPr>
        <p:spPr>
          <a:xfrm>
            <a:off x="7086600" y="1905120"/>
            <a:ext cx="167652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Sintesis de ácidos gra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Rectángulo 10"/>
          <p:cNvSpPr/>
          <p:nvPr/>
        </p:nvSpPr>
        <p:spPr>
          <a:xfrm>
            <a:off x="3124080" y="1447920"/>
            <a:ext cx="160020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arbohidr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Rectángulo 11"/>
          <p:cNvSpPr/>
          <p:nvPr/>
        </p:nvSpPr>
        <p:spPr>
          <a:xfrm>
            <a:off x="3352680" y="2057400"/>
            <a:ext cx="12193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iruv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ángulo 12"/>
          <p:cNvSpPr/>
          <p:nvPr/>
        </p:nvSpPr>
        <p:spPr>
          <a:xfrm>
            <a:off x="3276720" y="2971800"/>
            <a:ext cx="114300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iruv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Rectángulo 13"/>
          <p:cNvSpPr/>
          <p:nvPr/>
        </p:nvSpPr>
        <p:spPr>
          <a:xfrm>
            <a:off x="1104840" y="4145040"/>
            <a:ext cx="1067040" cy="6094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uerp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etón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Cuadro de texto 14"/>
          <p:cNvSpPr/>
          <p:nvPr/>
        </p:nvSpPr>
        <p:spPr>
          <a:xfrm>
            <a:off x="2286000" y="4648320"/>
            <a:ext cx="13716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cetogéne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Cuadro de texto 15"/>
          <p:cNvSpPr/>
          <p:nvPr/>
        </p:nvSpPr>
        <p:spPr>
          <a:xfrm>
            <a:off x="4191120" y="3930480"/>
            <a:ext cx="13716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Symbol"/>
                <a:ea typeface="Symbol"/>
              </a:rPr>
              <a:t>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oxid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Cuadro de texto 16"/>
          <p:cNvSpPr/>
          <p:nvPr/>
        </p:nvSpPr>
        <p:spPr>
          <a:xfrm>
            <a:off x="1752480" y="5181480"/>
            <a:ext cx="160020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MITOCONDR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Cuadro de texto 17"/>
          <p:cNvSpPr/>
          <p:nvPr/>
        </p:nvSpPr>
        <p:spPr>
          <a:xfrm>
            <a:off x="3429000" y="4295880"/>
            <a:ext cx="157464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Cuadro de texto 18"/>
          <p:cNvSpPr/>
          <p:nvPr/>
        </p:nvSpPr>
        <p:spPr>
          <a:xfrm>
            <a:off x="6248520" y="4281480"/>
            <a:ext cx="1295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Cuadro de texto 19"/>
          <p:cNvSpPr/>
          <p:nvPr/>
        </p:nvSpPr>
        <p:spPr>
          <a:xfrm>
            <a:off x="5486400" y="4952880"/>
            <a:ext cx="9144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itra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Cuadro de texto 20"/>
          <p:cNvSpPr/>
          <p:nvPr/>
        </p:nvSpPr>
        <p:spPr>
          <a:xfrm>
            <a:off x="4343400" y="4952880"/>
            <a:ext cx="7621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Citra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Cuadro de texto 21"/>
          <p:cNvSpPr/>
          <p:nvPr/>
        </p:nvSpPr>
        <p:spPr>
          <a:xfrm>
            <a:off x="7010280" y="5334120"/>
            <a:ext cx="14479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Oxalaceta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Cuadro de texto 23"/>
          <p:cNvSpPr/>
          <p:nvPr/>
        </p:nvSpPr>
        <p:spPr>
          <a:xfrm>
            <a:off x="6173640" y="1236600"/>
            <a:ext cx="11430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Ácidos gra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ángulo 24"/>
          <p:cNvSpPr/>
          <p:nvPr/>
        </p:nvSpPr>
        <p:spPr>
          <a:xfrm>
            <a:off x="5791320" y="2133720"/>
            <a:ext cx="106668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il-Co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Rectángulo 25"/>
          <p:cNvSpPr/>
          <p:nvPr/>
        </p:nvSpPr>
        <p:spPr>
          <a:xfrm>
            <a:off x="5486400" y="3276720"/>
            <a:ext cx="13716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il- Carnit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ángulo 26"/>
          <p:cNvSpPr/>
          <p:nvPr/>
        </p:nvSpPr>
        <p:spPr>
          <a:xfrm>
            <a:off x="4267080" y="3352680"/>
            <a:ext cx="11430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il-Co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74872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Procedencia de Acetil CoA, Enzimas y Poder reductor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8531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TR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ITRATO LIA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cetil-CoA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CIDO GRASO SINT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AD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Autoforma 12"/>
          <p:cNvSpPr/>
          <p:nvPr/>
        </p:nvSpPr>
        <p:spPr>
          <a:xfrm>
            <a:off x="2268360" y="5738760"/>
            <a:ext cx="358920" cy="111924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19240"/>
              <a:gd name="textAreaBottom" fmla="*/ 1090080 h 11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Cuadro de texto 13"/>
          <p:cNvSpPr/>
          <p:nvPr/>
        </p:nvSpPr>
        <p:spPr>
          <a:xfrm>
            <a:off x="2700360" y="5734080"/>
            <a:ext cx="30481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ía de las Pento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Cuadro de texto 14"/>
          <p:cNvSpPr/>
          <p:nvPr/>
        </p:nvSpPr>
        <p:spPr>
          <a:xfrm>
            <a:off x="2781360" y="6296040"/>
            <a:ext cx="272736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nzima má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Línea 15"/>
          <p:cNvSpPr/>
          <p:nvPr/>
        </p:nvSpPr>
        <p:spPr>
          <a:xfrm>
            <a:off x="4859280" y="53737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Elipse 16"/>
          <p:cNvSpPr/>
          <p:nvPr/>
        </p:nvSpPr>
        <p:spPr>
          <a:xfrm>
            <a:off x="5940360" y="4869000"/>
            <a:ext cx="2376720" cy="1224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mplej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ultienzimá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4" name="Grupo 31"/>
          <p:cNvGrpSpPr/>
          <p:nvPr/>
        </p:nvGrpSpPr>
        <p:grpSpPr>
          <a:xfrm>
            <a:off x="3122640" y="1052640"/>
            <a:ext cx="6021360" cy="2604960"/>
            <a:chOff x="3122640" y="1052640"/>
            <a:chExt cx="6021360" cy="2604960"/>
          </a:xfrm>
        </p:grpSpPr>
        <p:grpSp>
          <p:nvGrpSpPr>
            <p:cNvPr id="855" name="Grupo 29"/>
            <p:cNvGrpSpPr/>
            <p:nvPr/>
          </p:nvGrpSpPr>
          <p:grpSpPr>
            <a:xfrm>
              <a:off x="3122640" y="1052640"/>
              <a:ext cx="6021360" cy="1082160"/>
              <a:chOff x="3122640" y="1052640"/>
              <a:chExt cx="6021360" cy="1082160"/>
            </a:xfrm>
          </p:grpSpPr>
          <p:grpSp>
            <p:nvGrpSpPr>
              <p:cNvPr id="856" name="Grupo 26"/>
              <p:cNvGrpSpPr/>
              <p:nvPr/>
            </p:nvGrpSpPr>
            <p:grpSpPr>
              <a:xfrm>
                <a:off x="3122640" y="1690560"/>
                <a:ext cx="6021360" cy="444240"/>
                <a:chOff x="3122640" y="1690560"/>
                <a:chExt cx="6021360" cy="444240"/>
              </a:xfrm>
            </p:grpSpPr>
            <p:sp>
              <p:nvSpPr>
                <p:cNvPr id="857" name="Autoforma 4"/>
                <p:cNvSpPr/>
                <p:nvPr/>
              </p:nvSpPr>
              <p:spPr>
                <a:xfrm>
                  <a:off x="3122640" y="1766520"/>
                  <a:ext cx="990720" cy="304920"/>
                </a:xfrm>
                <a:custGeom>
                  <a:avLst/>
                  <a:gdLst>
                    <a:gd name="textAreaLeft" fmla="*/ 173160 w 990720"/>
                    <a:gd name="textAreaRight" fmla="*/ 718200 w 990720"/>
                    <a:gd name="textAreaTop" fmla="*/ 40680 h 304920"/>
                    <a:gd name="textAreaBottom" fmla="*/ 26424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Cuadro de texto 5"/>
                <p:cNvSpPr/>
                <p:nvPr/>
              </p:nvSpPr>
              <p:spPr>
                <a:xfrm>
                  <a:off x="441828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ETIL-Co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Cuadro de texto 6"/>
                <p:cNvSpPr/>
                <p:nvPr/>
              </p:nvSpPr>
              <p:spPr>
                <a:xfrm>
                  <a:off x="739152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LONIL-Co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Autoforma 7"/>
                <p:cNvSpPr/>
                <p:nvPr/>
              </p:nvSpPr>
              <p:spPr>
                <a:xfrm>
                  <a:off x="6475680" y="1690560"/>
                  <a:ext cx="838080" cy="304560"/>
                </a:xfrm>
                <a:custGeom>
                  <a:avLst/>
                  <a:gdLst>
                    <a:gd name="textAreaLeft" fmla="*/ 146520 w 838080"/>
                    <a:gd name="textAreaRight" fmla="*/ 607680 w 838080"/>
                    <a:gd name="textAreaTop" fmla="*/ 40680 h 304560"/>
                    <a:gd name="textAreaBottom" fmla="*/ 2638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Elipse 8"/>
              <p:cNvSpPr/>
              <p:nvPr/>
            </p:nvSpPr>
            <p:spPr>
              <a:xfrm>
                <a:off x="6372360" y="1052640"/>
                <a:ext cx="914400" cy="60948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T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2" name="Autoforma 10"/>
            <p:cNvSpPr/>
            <p:nvPr/>
          </p:nvSpPr>
          <p:spPr>
            <a:xfrm rot="5278800">
              <a:off x="7619760" y="2512440"/>
              <a:ext cx="1066320" cy="304920"/>
            </a:xfrm>
            <a:custGeom>
              <a:avLst/>
              <a:gdLst>
                <a:gd name="textAreaLeft" fmla="*/ 166320 w 1066320"/>
                <a:gd name="textAreaRight" fmla="*/ 933120 w 106632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Cuadro de texto 11"/>
            <p:cNvSpPr/>
            <p:nvPr/>
          </p:nvSpPr>
          <p:spPr>
            <a:xfrm>
              <a:off x="7620120" y="3289320"/>
              <a:ext cx="1295280" cy="368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L-Co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ínea 17"/>
            <p:cNvSpPr/>
            <p:nvPr/>
          </p:nvSpPr>
          <p:spPr>
            <a:xfrm>
              <a:off x="6170760" y="2060640"/>
              <a:ext cx="1904760" cy="53280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5" name="Grupo 30"/>
          <p:cNvGrpSpPr/>
          <p:nvPr/>
        </p:nvGrpSpPr>
        <p:grpSpPr>
          <a:xfrm>
            <a:off x="1403280" y="2900520"/>
            <a:ext cx="5426280" cy="1058040"/>
            <a:chOff x="1403280" y="2900520"/>
            <a:chExt cx="5426280" cy="1058040"/>
          </a:xfrm>
        </p:grpSpPr>
        <p:sp>
          <p:nvSpPr>
            <p:cNvPr id="866" name="Cuadro de texto 19"/>
            <p:cNvSpPr/>
            <p:nvPr/>
          </p:nvSpPr>
          <p:spPr>
            <a:xfrm>
              <a:off x="1403280" y="3260880"/>
              <a:ext cx="15843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I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Línea 20"/>
            <p:cNvSpPr/>
            <p:nvPr/>
          </p:nvSpPr>
          <p:spPr>
            <a:xfrm>
              <a:off x="3060720" y="3476520"/>
              <a:ext cx="15112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Cuadro de texto 21"/>
            <p:cNvSpPr/>
            <p:nvPr/>
          </p:nvSpPr>
          <p:spPr>
            <a:xfrm>
              <a:off x="5051520" y="2900520"/>
              <a:ext cx="17524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ETIL-Co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Cuadro de texto 22"/>
            <p:cNvSpPr/>
            <p:nvPr/>
          </p:nvSpPr>
          <p:spPr>
            <a:xfrm>
              <a:off x="5076720" y="3548160"/>
              <a:ext cx="175284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xalacetat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Cuadro de texto 23"/>
            <p:cNvSpPr/>
            <p:nvPr/>
          </p:nvSpPr>
          <p:spPr>
            <a:xfrm>
              <a:off x="5580000" y="3214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Cuadro de texto 24"/>
            <p:cNvSpPr/>
            <p:nvPr/>
          </p:nvSpPr>
          <p:spPr>
            <a:xfrm>
              <a:off x="2987640" y="3621240"/>
              <a:ext cx="187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TP      ADP + P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Autoforma 25"/>
            <p:cNvSpPr/>
            <p:nvPr/>
          </p:nvSpPr>
          <p:spPr>
            <a:xfrm>
              <a:off x="3492360" y="3548160"/>
              <a:ext cx="576360" cy="144360"/>
            </a:xfrm>
            <a:custGeom>
              <a:avLst/>
              <a:gdLst>
                <a:gd name="textAreaLeft" fmla="*/ 100800 w 576360"/>
                <a:gd name="textAreaRight" fmla="*/ 417960 w 576360"/>
                <a:gd name="textAreaTop" fmla="*/ 19080 h 144360"/>
                <a:gd name="textAreaBottom" fmla="*/ 12528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3" name="Línea 27"/>
          <p:cNvSpPr/>
          <p:nvPr/>
        </p:nvSpPr>
        <p:spPr>
          <a:xfrm>
            <a:off x="4932360" y="4581360"/>
            <a:ext cx="57636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Cuadro de texto 28"/>
          <p:cNvSpPr/>
          <p:nvPr/>
        </p:nvSpPr>
        <p:spPr>
          <a:xfrm>
            <a:off x="5508720" y="4292640"/>
            <a:ext cx="3406680" cy="4291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Síntesis de malonil-Co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2:06:53Z</dcterms:created>
  <dc:creator>Fanny</dc:creator>
  <dc:description/>
  <dc:language>en-US</dc:language>
  <cp:lastModifiedBy>Fanny Zirulnik</cp:lastModifiedBy>
  <dcterms:modified xsi:type="dcterms:W3CDTF">2017-05-03T21:13:32Z</dcterms:modified>
  <cp:revision>168</cp:revision>
  <dc:subject/>
  <dc:title>Presentación de PowerPoint</dc:title>
</cp:coreProperties>
</file>